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EE9C-7222-44CA-8354-6A710E8E7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7D9D-961C-4178-89DD-C19A92017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BCA7-CC3A-4D72-8520-800098694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2E9A-F545-4185-9C9F-945E1459D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78780-3891-4C5D-9585-8E8EE39C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184A5-E775-4220-A93B-982F077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A0E9-E8CC-417F-87D2-179BD01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20EF-ACA4-40C2-8ADE-DA3A552D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0B5BA-0DE3-4165-AE74-A007340F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5756-F191-4B51-A57F-A6D6831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BE875-854F-45D1-8E72-5F7DE51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4316-D067-4CA0-B0BF-D8978746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07512-C042-4403-A992-AC36EF1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DC12-23C7-4A71-92A2-A1454CA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FE710-EB3B-4017-B321-AE6B124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A09B9-1243-4348-81CB-CB8B286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A89A-0F40-4E02-A453-7F253848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D59D-85F9-4C36-9361-497F55A0B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4399-941C-4734-AD74-2E04C72BC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84C6-C327-4A73-812C-74D9A9D3A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BD72-2B71-4AED-8675-D7E82BAC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C917-4A2B-464E-B0A5-4F1A192B4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B816-D80C-4604-A847-02EFC8A8B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43FB-FEB3-441F-AA75-9BE46E8F5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011F-E9C0-40BB-AB03-B799FC34E19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635280" y="5229360"/>
            <a:ext cx="1905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DBB-91FC-45E9-AB47-A887A0A6900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8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45400" y="65199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Équipe ACAS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10080" y="6500880"/>
            <a:ext cx="93492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7160" y="6515280"/>
            <a:ext cx="306684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16966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èmes de recommandation pour la TV numérique 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bref état de l’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56390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arles Madeir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5/02/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ches fondées sur le cont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Arial"/>
              </a:rPr>
              <a:t>Les techniques couramment employé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elles fondées sur des heuristiques                                    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[Lang 1995;  Balabanovic et Shoham 1997;  Pazzani et Billsus 1997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TF-IDF (extraction d’informatio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12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elles fondées sur des modèles                                          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[Pazzani et Billsus 1997;  Mooney et al. 1998;  Mooney et Roy 1999;                Billsus et Pazzani 1999, 2000; Zhang et al. 2002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lassifieurs bayésie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rbres de déci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03120" indent="-3747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éseaux de neurones artificie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ches fondées sur la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 avanta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 recommandation peut être faite même si les traces sur les comportements de l’utilisateur ne sont pas disponib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l n’y a pas de sur-spécialis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 inconvén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jout de nouveaux ite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 système n’est pas capable de recommander un item avant qu’il ne soit suffisamment apprécié par les utilisate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jout de nouveaux utilisate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 système n’est pas capable de recommander efficacement avant d’obtenir un nombre suffisant d’appréciations de la part de l’utilisateu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énurie d’utilisate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e masse critique d’utilisateurs est requise pour que l’appréciation générale d’un item soit crédi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ches fondées sur la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16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75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es techniques couramment employé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75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elles fondées sur des heuristiques                                  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Resnick et al. 1994;   Hill et al. 1995;   Shardanand et Maes 1995;                    Breese et al. 1998;   Nakamura et Abe 1998;   Aggarwal et al. 1999;                   Delgado et Ishii 1999;   Pennock et Horwitz 1999;   Sarwar et al. 2001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lgorithme des plus proches voisi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héorie des graph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75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elles fondées sur des modèles                                        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Billsus et Pazzani 1998;  Pennock et Horwitz 1999;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yer-Schulz et al. 2000;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 Goldberg et al. 2001;   Pavlov et Pennock 2002;   Shani et al. 2002;                  Yu et al. 2002, 2004;   Hofmann 2003, 2004;   Marlin 2003;   Si et Jin 2003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seaux bayésie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seaux de neurones artificiel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égression linéai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odèles probabilis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lgorithmes évolutionnaires interactif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ches hyb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 avanta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 recommandation peut être faite lorsqu’un item est bien appréci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 un ensemble d’utilisateurs qui présentent des profils similai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 l’utilisateur lui-mê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 pénurie d’utilisateurs n’est pas un problème si importa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s résultats empiriques démontrent que les recommandations sont plus efficaces que dans le cadre des approches dites pu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’est l’approche communément adoptée ces dernières anné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s inconvéni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jout de nouveaux utilisate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jout de nouveaux ite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ches hyb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Les techniques couramment employé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elles fondées sur des heuristiques                                  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Balabanovic et Shoham 1997;   Claypool et al. 1999;   Good et al. 1999;           Pazzani 1999;   Billsus et Pazzani 2000;   Tran et Cohen 2000;                          Melville et al. 2002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mbinaison linéaire des apprécia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émas du vo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roduction de certaines caractéristiques d’une approche dans la heuristique adoptée par l’aut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elles fondées sur des modèles                                        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Basu et al. 1998;   Condliff et al. 1999;   Soboroff et Nicholas 1999;                   Ansari et al. 2000;   Popescul et al. 2001;   Schein et al. 2002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roduction de certaines caractéristiques d’une approche dans le modèle adopté par l’aut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nstruction d’un modèle général unifi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 améliorer davantage l’efficacité des recommanda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omprendre mieux les utilisateurs et les ite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mployer des techniques avancées de profil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ègles d’exploitation des données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Fawcett et Provost 1996; Adomavicius et Tuzhilin 2001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équences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Mannila et al. 1995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ignatures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Cortes et al. 2000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Introduire le contexte dans la procédure de recommand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ar exemp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Quand, où et avec qui une émission est vue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Quel est l’état émotionnel de l’utilisateur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nt améliorer davantage l’efficacité des recommanda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mettre une appréciation multicritèr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r exemp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as, décoration et service dans un restaura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nir des recommandations plus flexibles et moins intrusiv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ermettre une customisation des recommandations selon les besoins des utilisateu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’utilisateur « fais-le pour moi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 système totalement autono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’utilisateur « faisons-le ensemble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 système partiellement contrôla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’utilisateur « laisse-moi contrôler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 système totalement contrôla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d’émissions télévis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s systèmes de recommandation conçus pour la TV sont souvent fondés su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7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e combinaison d’un profil explicite et d’un ou plusieurs profils implici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7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 approches basées sur le contenu ou hybrid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fondés sur le cont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[Buczak et al. 2002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Explici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Questionnaire sur les préférences de l’utilisateur (chaîne, genre d’émission, jours et périodes de la journé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icite (traces d’utilisation – utilisateur individuel et ménag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Réseaux bayésie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Arbres de décis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Un réseau de neurones artificiels du type RBF fusionne les recommandations faites par chacun des profil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étriques d’évalu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Receiver operating characteristi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Erreur quadratique moyenn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nterface utilisateur flexi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Elle permet que la recommandation soit contrôlée par l’utilisateu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fondés sur le cont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Arial"/>
              </a:rPr>
              <a:t>[Yu et al. 2004]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xplic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Questionnaire sur les préférences de l’utilisateu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Implicite (traces d’un utilisateur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lassifieurs bayésie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Métrique d’é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ourcentage du temps éco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uil pour distinguer positif et négati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uil pour jeter certains changements de chaî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appel et précis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e de la T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5800" y="2060280"/>
            <a:ext cx="8893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2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La TV numériqu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2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Les systèmes de recommandatio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2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Quelques systèmes de recommandation proposés pour la TV numériqu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22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fondée sur le cont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[Ludwig et al . 2006]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omprendre comment les utilisateurs choisissent des émissions afin d’améliorer la flexibilité du systè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xplicite (questionnaire sur les préférences de l’utilisateu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 description textuelle des émissions est prise en comp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s mots sont groupés selon des thèmes prédéfin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ls sont traités afin de refléter les besoins émotionnels des utilisateu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107 attitudes émotionnelles sont modélisé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hyb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[Dai et Cohen 2003]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xplici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Questionnaire sur l’utilisateur et ses préférenc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mplicite (traces d’un utilisateu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seudo (groupe d’utilisateurs ayant intérêts similaire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étrique d’évalu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centage du temps écoute (seuil pour distinguer positif et négatif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rchitecture centralis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rvice disponible à partir d’un fournisseur câble ou satelli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hyb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[Potonniée 2004]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Traitement des problèmes de l’ubiquité et de l’intimité des utilisateu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xplicite (questionnaire sur l’utilisateu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ofil implicite (traces d’un utilisateur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chémas du vote (conten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Arbres de décision (collaboratif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étriques d’évalu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rreur absolue moyen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eceiver operating characterist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euil pour distinguer utile et inuti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rchitecture décentralis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arte à puce qui enregistre et contrôle l’accès au profi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hyb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640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SenSee </a:t>
            </a: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[Aroyo et al. 2007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0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Framework pour « Ambient Home Media 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Web et Set-top Bo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0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e profil explicite de l’utilisateur et le contexte sont pris en comp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ériode de la journée, localisation géographique, thèmes d’intérê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0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e ontologie est employée afin de traiter des concepts et des termes sémantiques des métadonné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pécification : TV-Anytime, MPEG7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88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ser preference description sch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88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sage history description sch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ources : XMLTV, BBC Backstag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systèmes de recommandation hyb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IMED </a:t>
            </a: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[Hsu et al. 2007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ctivités, intérêts, état émotionnel, expériences and information démographiqu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fi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xplicite (questionnaire sur l’utilisateur et ses préférence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Implici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Traces d’un utilisateur (conten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lustering hiérarchique (collaboratio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Un réseaux de neurones artificiels du type BPN est employé pour fusionner toutes les donné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étrique d’évalu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rreur quadratique moyenn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V numé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598400"/>
            <a:ext cx="8137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15000"/>
              </a:lnSpc>
              <a:spcBef>
                <a:spcPts val="17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blématique dans le point de vue de l’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15000"/>
              </a:lnSpc>
              <a:spcBef>
                <a:spcPts val="15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a TV numérique permet que ses utilisateurs      accèdent à un très grand nombre d’émiss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15000"/>
              </a:lnSpc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ela rend le choix des émissions long et péni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15000"/>
              </a:lnSpc>
              <a:spcBef>
                <a:spcPts val="15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s guides électroniques de programmes (EPG) ont été mis en place afin d’augmenter l’accessibilité des émissions disponib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115000"/>
              </a:lnSpc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 surcharge d’informations combinée à une                         interface graphique rudimentaire ne rend pas                       la vie des utilisateurs plus faci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67520" y="112680"/>
            <a:ext cx="2054160" cy="3070080"/>
            <a:chOff x="7067520" y="112680"/>
            <a:chExt cx="2054160" cy="30700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8291520" y="1958760"/>
              <a:ext cx="625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7786800" y="2247840"/>
              <a:ext cx="51588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7067520" y="112680"/>
              <a:ext cx="205416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7354800" y="1598400"/>
              <a:ext cx="150840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891480" y="514368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V numé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6840" y="1773000"/>
            <a:ext cx="8642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110000"/>
              </a:lnSpc>
              <a:spcBef>
                <a:spcPts val="10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Solution générale </a:t>
            </a: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[Ardissono et al. 2004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10000"/>
              </a:lnSpc>
              <a:spcBef>
                <a:spcPts val="10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Fournir des EPG personnalisés pour aider les                 utilisateurs dans le traitement du grand nombre d’informations disponib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110000"/>
              </a:lnSpc>
              <a:spcBef>
                <a:spcPts val="122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Voie adopté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110000"/>
              </a:lnSpc>
              <a:spcBef>
                <a:spcPts val="104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es systèmes de recommand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110000"/>
              </a:lnSpc>
              <a:spcBef>
                <a:spcPts val="788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maine de recherche développé depuis le milieu des années 90 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[Adomavicius et Tuzhilin 2005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lnSpc>
                <a:spcPct val="110000"/>
              </a:lnSpc>
              <a:spcBef>
                <a:spcPts val="788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n grand nombre de problèmes sont posé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lnSpc>
                <a:spcPct val="110000"/>
              </a:lnSpc>
              <a:spcBef>
                <a:spcPts val="788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Un grand nombre d’applications pratiques exist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67520" y="112680"/>
            <a:ext cx="2054160" cy="3070080"/>
            <a:chOff x="7067520" y="112680"/>
            <a:chExt cx="2054160" cy="30700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291520" y="1958760"/>
              <a:ext cx="625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786800" y="2247840"/>
              <a:ext cx="51588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7067520" y="112680"/>
              <a:ext cx="205416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7354800" y="1598400"/>
              <a:ext cx="1508400" cy="3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èmes de recomma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ormalis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 est un ensemble d’utilisate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 est un ensemble d’items (émissions dans le cas de la TV) qui peuvent être recommandé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V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: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x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  <a:ea typeface="Arial"/>
              </a:rPr>
              <a:t>→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   est une fonction d’évaluation à valeurs réelles qui indique l’intérêt d’un item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s </a:t>
            </a:r>
            <a:r>
              <a:rPr b="0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  <a:ea typeface="Arial"/>
              </a:rPr>
              <a:t>S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pour un utilisateur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n </a:t>
            </a:r>
            <a:r>
              <a:rPr b="0" lang="ru-RU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haque élément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</a:rPr>
              <a:t>n </a:t>
            </a:r>
            <a:r>
              <a:rPr b="0" lang="ru-RU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eut être défini par un profil composé de plusieurs caractéristiques de l’utilisateu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’âge, le sexe, la situation familiale, le niveau de scolarité, et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haque élément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peut être défini par plusieurs caractéristiques de l’it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12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Exemple d’une émission télévisée 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La chaîne, le titre, la catégorie, le producteur, les acteurs, la date de production, etc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443320" y="3164040"/>
                <a:ext cx="26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èmes de recomma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520" y="177336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ur chaque utilisateur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</a:rPr>
              <a:t>n </a:t>
            </a:r>
            <a:r>
              <a:rPr b="0" lang="ru-RU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, un item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</a:rPr>
              <a:t>s' </a:t>
            </a:r>
            <a:r>
              <a:rPr b="0" lang="ru-RU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Є</a:t>
            </a:r>
            <a:r>
              <a:rPr b="0" lang="fr-F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292929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 doit être sélectionné afin de maximiser la satisfaction de l’utilisateu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Problème cent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10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s items qui n’ont pas encore été évalués par chaque utilisateur doivent être évalués automatiquement dans le cadre du processus de recommand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a fonction d’évaluation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doit être extrapolée à l’ensemble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x </a:t>
            </a: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à l’aide d’heuristiques validées empirique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à l’aide d’un modèle qui maximise un certain critère de perform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22680" y="3032280"/>
                <a:ext cx="3528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lim>
                    </m:limLow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èmes de recomma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Classement adopté par la communauté </a:t>
            </a: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[Balabanovic et Shoham 1997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90000"/>
              </a:lnSpc>
              <a:spcBef>
                <a:spcPts val="11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roches fondées sur le conten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67920" indent="-39492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e système recommande des items similaires à ceux que l’utilisateur a déjà apprécié précédem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47360" indent="-37800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Il est nécessaire de se doter d’une mesure de corrélation entre les différents items permettant d’apprécier leur degré de ressembl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90000"/>
              </a:lnSpc>
              <a:spcBef>
                <a:spcPts val="11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roches fondées sur la collabo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67920" indent="-39492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Le système recommande des items apprécies précédemment par d’autres utilisateurs qui ont des préférences similai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47360" indent="-37800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Il est nécessaire de se doter d’une mesure de corrélation entre les utilisat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70840" indent="-430560">
              <a:lnSpc>
                <a:spcPct val="90000"/>
              </a:lnSpc>
              <a:spcBef>
                <a:spcPts val="11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pproches hybri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67920" indent="-39492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mbinaison de deux approches ci-dessu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èmes de recomma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520" y="177300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outes les approches requièrent un profil de l’utilisateur contenant de l’information sur ses goûts, préférences et besoi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e profil peut être obten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plicitement (questionnaire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 plus précis bien qu’il puisse avoir une disparité entre l’auto-description et le comportement réel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s recommandations peuvent être faites rapidemen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l nécessite un niveau d’effort considérable de la part de l’utilisateu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licit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 partir des comportements de l’utilisateu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l permet d’appréhender les comportements réels de l’utilisateu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Il faut attendre le rassemblement de l’information implicite nécessai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L’interprétation des comportements réels peut être trompeus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Un utilisateur peut par exemple regarder une émission sans vraiment l’aim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 partir des préférences identifiées pour un groupe d’utilisat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ches fondées sur le cont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s avantag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5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 recommandation peut être réglée selon les préférences personnelles d’un utilisateur individu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s inconvéni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5000"/>
              </a:lnSpc>
              <a:spcBef>
                <a:spcPts val="6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épendance aux caractéristiques associées au contenu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’extraction d’information est difficile dans le cas des données multiméd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ux items distincts représentés par la même information ne peuvent pas être différencié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5000"/>
              </a:lnSpc>
              <a:spcBef>
                <a:spcPts val="6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ur-spécialis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a recommandation se restreint aux items similaires à ceux déjà appréciés par l’utilisateu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ublons de recommandation peuvent se produire lorsque des items distincts désignent un même conten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5000"/>
              </a:lnSpc>
              <a:spcBef>
                <a:spcPts val="675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jout de nouveaux utilisateu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5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 système n’est pas capable de recommander efficacement avant d’obtenir un nombre suffisant d’appréciations de la part de l’utilisateu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0:25:40Z</dcterms:created>
  <dc:creator>Charles Madeira</dc:creator>
  <dc:description/>
  <dc:language>en-US</dc:language>
  <cp:lastModifiedBy>Charles Madeira</cp:lastModifiedBy>
  <dcterms:modified xsi:type="dcterms:W3CDTF">2008-02-07T10:54:01Z</dcterms:modified>
  <cp:revision>781</cp:revision>
  <dc:subject/>
  <dc:title>Apprentissage par renforcement: une application au projet BUIS</dc:title>
</cp:coreProperties>
</file>