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1.wmf" ContentType="image/x-wmf"/>
  <Override PartName="/ppt/media/image29.jpeg" ContentType="image/jpeg"/>
  <Override PartName="/ppt/media/image12.jpeg" ContentType="image/jpeg"/>
  <Override PartName="/ppt/media/image4.png" ContentType="image/png"/>
  <Override PartName="/ppt/media/image41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59.wmf" ContentType="image/x-wmf"/>
  <Override PartName="/ppt/media/image13.jpeg" ContentType="image/jpeg"/>
  <Override PartName="/ppt/media/image27.png" ContentType="image/png"/>
  <Override PartName="/ppt/media/image3.png" ContentType="image/png"/>
  <Override PartName="/ppt/media/image2.png" ContentType="image/png"/>
  <Override PartName="/ppt/media/image11.jpeg" ContentType="image/jpeg"/>
  <Override PartName="/ppt/media/image60.wmf" ContentType="image/x-wmf"/>
  <Override PartName="/ppt/media/image36.jpeg" ContentType="image/jpeg"/>
  <Override PartName="/ppt/media/image26.jpeg" ContentType="image/jpeg"/>
  <Override PartName="/ppt/media/image1.png" ContentType="image/png"/>
  <Override PartName="/ppt/media/image61.wmf" ContentType="image/x-wmf"/>
  <Override PartName="/ppt/media/image24.wmf" ContentType="image/x-wmf"/>
  <Override PartName="/ppt/media/image52.wmf" ContentType="image/x-wmf"/>
  <Override PartName="/ppt/media/image8.png" ContentType="image/png"/>
  <Override PartName="/ppt/media/image23.jpeg" ContentType="image/jpeg"/>
  <Override PartName="/ppt/media/image63.wmf" ContentType="image/x-wmf"/>
  <Override PartName="/ppt/media/image15.jpeg" ContentType="image/jpeg"/>
  <Override PartName="/ppt/media/image19.jpeg" ContentType="image/jpeg"/>
  <Override PartName="/ppt/media/image22.png" ContentType="image/png"/>
  <Override PartName="/ppt/media/image25.jpeg" ContentType="image/jpeg"/>
  <Override PartName="/ppt/media/image62.wmf" ContentType="image/x-wmf"/>
  <Override PartName="/ppt/media/image21.jpeg" ContentType="image/jpeg"/>
  <Override PartName="/ppt/media/image16.jpeg" ContentType="image/jpeg"/>
  <Override PartName="/ppt/media/image5.png" ContentType="image/png"/>
  <Override PartName="/ppt/media/image17.wmf" ContentType="image/x-wmf"/>
  <Override PartName="/ppt/media/image10.jpeg" ContentType="image/jpeg"/>
  <Override PartName="/ppt/media/image54.wmf" ContentType="image/x-wmf"/>
  <Override PartName="/ppt/media/image31.jpeg" ContentType="image/jpeg"/>
  <Override PartName="/ppt/media/image14.jpeg" ContentType="image/jpeg"/>
  <Override PartName="/ppt/media/image57.wmf" ContentType="image/x-wmf"/>
  <Override PartName="/ppt/media/image58.wmf" ContentType="image/x-wmf"/>
  <Override PartName="/ppt/media/image34.jpeg" ContentType="image/jpeg"/>
  <Override PartName="/ppt/media/image42.jpeg" ContentType="image/jpeg"/>
  <Override PartName="/ppt/media/image18.png" ContentType="image/png"/>
  <Override PartName="/ppt/media/image40.wmf" ContentType="image/x-wmf"/>
  <Override PartName="/ppt/media/image6.png" ContentType="image/png"/>
  <Override PartName="/ppt/media/image35.jpeg" ContentType="image/jpeg"/>
  <Override PartName="/ppt/media/image50.wmf" ContentType="image/x-wmf"/>
  <Override PartName="/ppt/media/image28.png" ContentType="image/png"/>
  <Override PartName="/ppt/media/image37.jpeg" ContentType="image/jpeg"/>
  <Override PartName="/ppt/media/image32.jpeg" ContentType="image/jpeg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jpeg" ContentType="image/jpeg"/>
  <Override PartName="/ppt/media/image33.jpeg" ContentType="image/jpeg"/>
  <Override PartName="/ppt/media/image48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564-BB2E-4BB8-8400-1F16EE98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50560" y="37900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8A3-E61D-4FD0-BD35-D355C666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4148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830-3CAB-4A44-B53E-8AD5E334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4784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4548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5056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4784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4548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053-FF0F-4620-9017-3B6A349F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23640" y="90360"/>
            <a:ext cx="7970760" cy="31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DB6-DDE8-4A41-922C-75372A1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148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0560" y="37900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148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4784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5480" y="12682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056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4784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5480" y="3790080"/>
            <a:ext cx="275904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792-66FC-4A78-AD88-EFED868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AF5-5C3A-40FB-AF34-84D6DDA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56E-9862-42AF-93C7-D3B4C86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323640" y="90360"/>
            <a:ext cx="7970760" cy="31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151-187E-44E0-932E-058E690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25C-B957-4248-BE9D-C2E65F2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41480" y="37900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4B5-7238-4289-8F39-310C9E7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1480" y="1268280"/>
            <a:ext cx="4181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0560" y="3790080"/>
            <a:ext cx="8569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2FB-A010-4213-B19F-E2973A0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41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D2D-1BA1-4613-8525-6DECDF0FF0F9}" type="datetime">
              <a:rPr b="0" lang="fr-FR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0D7-F239-4AE3-A90A-047852460B2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42040" y="6397560"/>
            <a:ext cx="2895480" cy="468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9"/>
          <a:stretch/>
        </p:blipFill>
        <p:spPr>
          <a:xfrm>
            <a:off x="611280" y="5734080"/>
            <a:ext cx="4474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" name="" descr=""/>
          <p:cNvPicPr/>
          <p:nvPr/>
        </p:nvPicPr>
        <p:blipFill>
          <a:blip r:embed="rId10"/>
          <a:stretch/>
        </p:blipFill>
        <p:spPr>
          <a:xfrm>
            <a:off x="0" y="835200"/>
            <a:ext cx="9144000" cy="360360"/>
          </a:xfrm>
          <a:prstGeom prst="rect">
            <a:avLst/>
          </a:prstGeom>
          <a:ln w="0">
            <a:noFill/>
          </a:ln>
        </p:spPr>
      </p:pic>
      <p:sp>
        <p:nvSpPr>
          <p:cNvPr id="24" name=""/>
          <p:cNvSpPr/>
          <p:nvPr/>
        </p:nvSpPr>
        <p:spPr>
          <a:xfrm>
            <a:off x="8572680" y="6453360"/>
            <a:ext cx="549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931-90AD-413A-8019-82A99010F24A}" type="slidenum">
              <a:rPr b="0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11"/>
          <a:stretch/>
        </p:blipFill>
        <p:spPr>
          <a:xfrm>
            <a:off x="2916360" y="5734080"/>
            <a:ext cx="447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242040" y="6397560"/>
            <a:ext cx="2895480" cy="468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400" y="6315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DF0A-E72E-4D42-890C-CD9D9B5E0E84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447480" cy="38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16360" y="5734080"/>
            <a:ext cx="4474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7802640" y="76320"/>
          <a:ext cx="1303200" cy="458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02640" y="76320"/>
                    <a:ext cx="13032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22400" y="41400"/>
            <a:ext cx="461880" cy="473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0" y="329076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76440" y="68400"/>
            <a:ext cx="1285560" cy="43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72680" y="6453360"/>
            <a:ext cx="549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64C-223F-40BB-BF1A-D632A683B616}" type="slidenum">
              <a:rPr b="0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341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6341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6341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6341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5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3.jpe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7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image" Target="../media/image4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3.jpeg"/><Relationship Id="rId10" Type="http://schemas.openxmlformats.org/officeDocument/2006/relationships/image" Target="../media/image16.jpeg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320" y="1006200"/>
            <a:ext cx="8818560" cy="19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Agents adaptatifs dans les jeux de stratégie modernes : une approche fondée sur l’apprentissage par renforcement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22040" y="3921120"/>
            <a:ext cx="714996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Charles A. G. MADEIR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Arial"/>
              </a:rPr>
              <a:t>Encadrant: Vincent CORRUBLE,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Arial"/>
              </a:rPr>
              <a:t>Sous la direction de Jean-Gabriel GANASCI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6160" y="133200"/>
            <a:ext cx="8818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63416"/>
                </a:solidFill>
                <a:latin typeface="Arial"/>
              </a:rPr>
              <a:t>Thèse de Doctorat de l’Université Paris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5/04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L’approche S</a:t>
            </a:r>
            <a:r>
              <a:rPr b="0" lang="fr-FR" sz="28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Arial"/>
              </a:rPr>
              <a:t>[Madeira et al. 2004, 2005, 2006]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320" y="11980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composition du processus de prise de décis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offrent une organisation en group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tructure hiérarchique de prise de décisions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adéquate des espaces d’états et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utilisent une carte géographiqu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Adapter la granularité à l’aide d’un algorithme d’analyse automatique du terrain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286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Analyse de terrain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Rabin 2003][Grindle et al. 2004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286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Raisonnement spatial qualitatif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Cohn et Hazarika 2001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Généralisation de la stratég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ocher la stratégie à l’aide d’approximateurs de fonction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finition de bons scénarios d’apprentissag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endre par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Jouer initialement contre un adversaire autre que soi-mêm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D0155-3A78-4D1D-A375-500FC70CF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appliquée à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320" y="11980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Décomposition du processus de prise de décis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Les jeux de stratégie modernes offrent une organisation en group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ructure hiérarchique de prise de décisions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adéquate des espaces d’états et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utilisent une carte géographiqu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Adapter la granularité à l’aide d’un algorithme d’analyse automatique du terrain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Généralisation de la stratég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ocher la stratégie à l’aide d’approximateurs de fonction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finition de bons scénarios d’apprentissag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endre par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Jouer initialement contre un adversaire autre que soi-mêm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72A99-4AD6-4736-9879-3ABCEBC963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392160" y="5665680"/>
            <a:ext cx="107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Percep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03960" y="5657760"/>
            <a:ext cx="7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31400" y="5684760"/>
            <a:ext cx="107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Percep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74880" y="5675400"/>
            <a:ext cx="7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92120" y="4349880"/>
            <a:ext cx="878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Times New Roman"/>
              </a:rPr>
              <a:t>Sit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55560" y="435456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15200" y="434664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01000" y="4351320"/>
            <a:ext cx="878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Times New Roman"/>
              </a:rPr>
              <a:t>Sit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2920" y="4691160"/>
            <a:ext cx="3587760" cy="96984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9240" y="2970360"/>
            <a:ext cx="35020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énéral de 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2120" y="3825720"/>
            <a:ext cx="341964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énéral de Brig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1120" y="4618080"/>
            <a:ext cx="37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roupe de combat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96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Batt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d’artill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5276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Régiment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caval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2420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Batail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d’infant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96920" y="2303640"/>
            <a:ext cx="442800" cy="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478320" y="3409920"/>
            <a:ext cx="0" cy="43200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56960" y="3516480"/>
            <a:ext cx="878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Times New Roman"/>
              </a:rPr>
              <a:t>Sit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933560" y="5646240"/>
            <a:ext cx="0" cy="36036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87600" y="2124000"/>
            <a:ext cx="3600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énéral de Cor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5240" y="1276200"/>
            <a:ext cx="360072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énéral d’Arm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91080" y="3828960"/>
            <a:ext cx="34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énéral de Brig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94200" y="3736800"/>
            <a:ext cx="536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13200" y="3408120"/>
            <a:ext cx="0" cy="43164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39000" y="2851200"/>
            <a:ext cx="536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05400" y="1984320"/>
            <a:ext cx="536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92800" y="4686480"/>
            <a:ext cx="3587400" cy="971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1000" y="4600440"/>
            <a:ext cx="37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roupe de combat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5760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Batt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d’artill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3876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Régiment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caval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10560" y="5013360"/>
            <a:ext cx="1116000" cy="611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Batail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d’infante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5653080"/>
            <a:ext cx="0" cy="36036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396120" y="5641560"/>
            <a:ext cx="0" cy="36036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5640" y="4941720"/>
            <a:ext cx="536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684440" y="4262400"/>
            <a:ext cx="0" cy="432000"/>
          </a:xfrm>
          <a:prstGeom prst="line">
            <a:avLst/>
          </a:prstGeom>
          <a:ln w="28440">
            <a:solidFill>
              <a:srgbClr val="4634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592360" y="4257360"/>
            <a:ext cx="0" cy="43164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802480" y="4275000"/>
            <a:ext cx="0" cy="432000"/>
          </a:xfrm>
          <a:prstGeom prst="line">
            <a:avLst/>
          </a:prstGeom>
          <a:ln w="28440">
            <a:solidFill>
              <a:srgbClr val="4634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761160" y="4267080"/>
            <a:ext cx="0" cy="43200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94200" y="3336840"/>
            <a:ext cx="179640" cy="0"/>
          </a:xfrm>
          <a:prstGeom prst="line">
            <a:avLst/>
          </a:prstGeom>
          <a:ln w="284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23800" y="346536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70600" y="3338640"/>
            <a:ext cx="0" cy="468360"/>
          </a:xfrm>
          <a:prstGeom prst="line">
            <a:avLst/>
          </a:prstGeom>
          <a:ln cap="sq"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35600" y="297180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5040" y="177156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84320" y="1725480"/>
            <a:ext cx="0" cy="576360"/>
          </a:xfrm>
          <a:prstGeom prst="line">
            <a:avLst/>
          </a:prstGeom>
          <a:ln cap="sq" w="284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37680" y="2641680"/>
            <a:ext cx="878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Times New Roman"/>
              </a:rPr>
              <a:t>Sit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10840" y="1797120"/>
            <a:ext cx="878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Times New Roman"/>
              </a:rPr>
              <a:t>Sit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067280" y="1701720"/>
            <a:ext cx="0" cy="43200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3152880"/>
            <a:ext cx="442800" cy="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94840" y="265428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32040" y="2573280"/>
            <a:ext cx="0" cy="576360"/>
          </a:xfrm>
          <a:prstGeom prst="line">
            <a:avLst/>
          </a:prstGeom>
          <a:ln cap="sq" w="284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13520" y="21207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06720" y="3349800"/>
            <a:ext cx="179280" cy="0"/>
          </a:xfrm>
          <a:prstGeom prst="line">
            <a:avLst/>
          </a:prstGeom>
          <a:ln w="284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06720" y="3349800"/>
            <a:ext cx="0" cy="468000"/>
          </a:xfrm>
          <a:prstGeom prst="line">
            <a:avLst/>
          </a:prstGeom>
          <a:ln cap="sq"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1480" y="344808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Times New Roman"/>
              </a:rPr>
              <a:t>Or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800600" y="2552400"/>
            <a:ext cx="0" cy="431640"/>
          </a:xfrm>
          <a:prstGeom prst="line">
            <a:avLst/>
          </a:prstGeom>
          <a:ln w="284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39240" y="1257480"/>
            <a:ext cx="0" cy="4416120"/>
          </a:xfrm>
          <a:prstGeom prst="line">
            <a:avLst/>
          </a:prstGeom>
          <a:ln cap="sq" w="28440">
            <a:solidFill>
              <a:srgbClr val="46341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164440" y="1455840"/>
            <a:ext cx="900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Objectif 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 </a:t>
            </a: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long term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(Stratégi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4080" y="4781520"/>
            <a:ext cx="10778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Ac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Spécifiqu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463416"/>
                </a:solidFill>
                <a:latin typeface="Times New Roman"/>
              </a:rPr>
              <a:t>(Tactiqu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717560" y="5659200"/>
            <a:ext cx="0" cy="360360"/>
          </a:xfrm>
          <a:prstGeom prst="line">
            <a:avLst/>
          </a:prstGeom>
          <a:ln w="28440">
            <a:solidFill>
              <a:srgbClr val="4634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1760" y="90360"/>
            <a:ext cx="896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La hiérarchie de contrôle et de commandement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7C92B-EB79-434A-81CB-EED93FBB4E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appliquée à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6320" y="11980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composition du processus de prise de décis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offrent une organisation en group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tructure hiérarchique de prise de décisions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eprésentation adéquate des espaces d’états et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Les jeux de stratégie modernes utilisent une carte géographiqu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dapter la granularité à l’aide d’un algorithme d’analyse automatique du terrain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Généralisation de la stratég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ocher la stratégie à l’aide d’approximateurs de fonction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finition de bons scénarios d’apprentissag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endre par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Jouer initialement contre un adversaire autre que soi-mêm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9350F-BC2A-4054-97D4-E92946D2E4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5464080"/>
            <a:ext cx="9144000" cy="139392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815000" y="2687760"/>
            <a:ext cx="4246560" cy="28796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Abstraction de l’espace d’action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Définition des ordres de haut niveau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Attaque extrême, attaque, arrêt, défense, défense extrêm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Identification des points tactiques sur la carte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L’espace d’actions stratégiques </a:t>
            </a:r>
            <a:r>
              <a:rPr b="1" i="1" lang="fr-FR" sz="24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 de l’agent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= ordres de haut niveau X points tactique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84240" y="2687760"/>
            <a:ext cx="4246560" cy="28796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549760" y="29034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72480" y="291636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96200" y="52545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46840" y="44910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31040" y="42181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21680" y="46260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82160" y="477036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642520" y="360828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61040" y="4292640"/>
            <a:ext cx="431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400" y="3171960"/>
            <a:ext cx="124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fr-FR" sz="2400" spc="-1" strike="noStrike" baseline="30000">
                <a:solidFill>
                  <a:srgbClr val="ff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0200" y="3166920"/>
            <a:ext cx="87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=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aptop"/>
          <p:cNvSpPr/>
          <p:nvPr/>
        </p:nvSpPr>
        <p:spPr>
          <a:xfrm>
            <a:off x="4356000" y="3753000"/>
            <a:ext cx="432000" cy="360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4830E-F0B0-40D0-8F13-858B0B4ACD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809960" y="2887560"/>
            <a:ext cx="4246560" cy="2880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813200" y="2887560"/>
            <a:ext cx="4246560" cy="2880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Abstraction de l’espace d’état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8000" y="117756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Situation du groupe d’unités du 1</a:t>
            </a:r>
            <a:r>
              <a:rPr b="1" lang="fr-FR" sz="20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Centre de masses, force, fatigue, qualité, mobilit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Situation des unités sur les zones du 1</a:t>
            </a:r>
            <a:r>
              <a:rPr b="1" lang="fr-FR" sz="20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Force et fatigue par camp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Identification des zones stratégiques sur la cart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2001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L’espace d’états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de l’environnement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= centre de masses X force X fatigue X qualité X mobilité X force par zone et camp X fatigue par zone et camp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0"/>
          <a:stretch/>
        </p:blipFill>
        <p:spPr>
          <a:xfrm>
            <a:off x="84240" y="2887560"/>
            <a:ext cx="4246560" cy="2880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5549760" y="31035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1840" y="3106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15280" y="546408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46840" y="46911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31040" y="44179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21680" y="4826160"/>
            <a:ext cx="150840" cy="1504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82160" y="497988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651880" y="3817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24040" y="31129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46400" y="31161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79480" y="5473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20760" y="4700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04960" y="442764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95600" y="4835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5440" y="4970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06720" y="3817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00" y="3371760"/>
            <a:ext cx="124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fr-FR" sz="2400" spc="-1" strike="noStrike" baseline="30000">
                <a:solidFill>
                  <a:srgbClr val="ff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40200" y="3367080"/>
            <a:ext cx="97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fr-FR" sz="2400" spc="-1" strike="noStrike" baseline="30000">
                <a:solidFill>
                  <a:srgbClr val="ff0000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61040" y="4483080"/>
            <a:ext cx="431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aptop"/>
          <p:cNvSpPr/>
          <p:nvPr/>
        </p:nvSpPr>
        <p:spPr>
          <a:xfrm>
            <a:off x="4356000" y="3943440"/>
            <a:ext cx="432000" cy="360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27760" y="3086280"/>
            <a:ext cx="43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30840" y="5294160"/>
            <a:ext cx="371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73960" y="313848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94520" y="4589640"/>
            <a:ext cx="415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709120" y="3527280"/>
            <a:ext cx="31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80600" y="4876920"/>
            <a:ext cx="40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9FBA6-4121-4A48-AC91-5DF6F3610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08000" y="1187280"/>
            <a:ext cx="903600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Situation du groupe d’unités du 2</a:t>
            </a:r>
            <a:r>
              <a:rPr b="1" lang="fr-FR" sz="20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Ordre reçu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, centre de masses, force, fatigue, qualité, mobilit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Situation des unités sur les zones du 2</a:t>
            </a:r>
            <a:r>
              <a:rPr b="1" lang="fr-FR" sz="20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Force et fatigue par camp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Identification des zones stratégiques sur la cart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L’espace d’états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de l’environnement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ordre reçu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X centre de masses X force X fatigue X qualité X mobilité X force par zone et camp X fatigue par zone et camp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82440" y="2887560"/>
            <a:ext cx="4246560" cy="28800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4809960" y="2887560"/>
            <a:ext cx="4246560" cy="288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Abstraction de l’espace d’état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4040" y="31129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46400" y="31161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79480" y="5473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20760" y="4700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04960" y="442764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95600" y="4835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65440" y="49705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06720" y="3817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61040" y="4483080"/>
            <a:ext cx="431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laptop"/>
          <p:cNvSpPr/>
          <p:nvPr/>
        </p:nvSpPr>
        <p:spPr>
          <a:xfrm>
            <a:off x="4356000" y="3943440"/>
            <a:ext cx="432000" cy="360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70520" y="30384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4240" y="5275440"/>
            <a:ext cx="371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69200" y="2957400"/>
            <a:ext cx="411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03880" y="4532400"/>
            <a:ext cx="416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651880" y="3355920"/>
            <a:ext cx="31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523360" y="4781520"/>
            <a:ext cx="4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2080" y="30258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4240" y="5310360"/>
            <a:ext cx="3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08280" y="3078000"/>
            <a:ext cx="411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28840" y="4605480"/>
            <a:ext cx="415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71880" y="3524400"/>
            <a:ext cx="314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4920" y="4892760"/>
            <a:ext cx="40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49760" y="31035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81840" y="3106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15280" y="546408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46840" y="46911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31040" y="441792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21680" y="4826160"/>
            <a:ext cx="150840" cy="1504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282160" y="4979880"/>
            <a:ext cx="15048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651880" y="381780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51400" y="312264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18120" y="4361040"/>
            <a:ext cx="150840" cy="1504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62920" y="355284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46880" y="391320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983280" y="353232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51720" y="3871800"/>
            <a:ext cx="411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99040" y="5367240"/>
            <a:ext cx="371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72480" y="397512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48360" y="487368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54760" y="5337000"/>
            <a:ext cx="411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7880" y="558648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30840" y="5578560"/>
            <a:ext cx="150840" cy="1508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D5CC2-52B3-42CF-BD65-0A171CA8F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appliquée à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320" y="11980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composition du processus de prise de décis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offrent une organisation en group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tructure hiérarchique de prise de décisions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adéquate des espaces d’états et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utilisent une carte géographiqu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Adapter la granularité à l’aide d’un algorithme d’analyse automatique du terrain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Généralisation de la stratég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Approcher la stratégie à l’aide d’approximateurs de fonction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finition de bons scénarios d’apprentissag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endre par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Jouer initialement contre un adversaire autre que soi-mêm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C38B-6C0D-49DD-935C-2F28E430F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85690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3416"/>
                </a:solidFill>
                <a:latin typeface="Arial"/>
              </a:rPr>
              <a:t>Approximateurs de fonction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3648240" y="1932120"/>
            <a:ext cx="1527120" cy="12794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471600" y="3154320"/>
            <a:ext cx="1536480" cy="13240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3648240" y="3193920"/>
            <a:ext cx="1527120" cy="12798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3648240" y="4684680"/>
            <a:ext cx="1527120" cy="12794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483000" y="2089080"/>
            <a:ext cx="187200" cy="865080"/>
          </a:xfrm>
          <a:custGeom>
            <a:avLst/>
            <a:gdLst>
              <a:gd name="textAreaLeft" fmla="*/ 119520 w 187200"/>
              <a:gd name="textAreaRight" fmla="*/ 187560 w 1872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92360" y="3351240"/>
            <a:ext cx="187560" cy="863640"/>
          </a:xfrm>
          <a:custGeom>
            <a:avLst/>
            <a:gdLst>
              <a:gd name="textAreaLeft" fmla="*/ 119880 w 187560"/>
              <a:gd name="textAreaRight" fmla="*/ 187920 w 187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3000" y="4840200"/>
            <a:ext cx="187200" cy="865440"/>
          </a:xfrm>
          <a:custGeom>
            <a:avLst/>
            <a:gdLst>
              <a:gd name="textAreaLeft" fmla="*/ 119520 w 187200"/>
              <a:gd name="textAreaRight" fmla="*/ 187560 w 1872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4920" y="2298600"/>
            <a:ext cx="37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86080" y="355284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0240" y="504828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91120" y="434988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97600" y="2370240"/>
            <a:ext cx="87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8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97600" y="3619440"/>
            <a:ext cx="873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8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87880" y="5108400"/>
            <a:ext cx="88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800" spc="-1" strike="noStrike" baseline="-25000">
                <a:solidFill>
                  <a:srgbClr val="463416"/>
                </a:solidFill>
                <a:latin typeface="Times New Roman"/>
              </a:rPr>
              <a:t>n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19160" y="3413160"/>
            <a:ext cx="8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8000" y="3611520"/>
            <a:ext cx="876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98640" y="3844800"/>
            <a:ext cx="88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600" spc="-1" strike="noStrike" baseline="-25000">
                <a:solidFill>
                  <a:srgbClr val="463416"/>
                </a:solidFill>
                <a:latin typeface="Times New Roman"/>
              </a:rPr>
              <a:t>n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97000" y="368784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3284640"/>
            <a:ext cx="138240" cy="936360"/>
          </a:xfrm>
          <a:custGeom>
            <a:avLst/>
            <a:gdLst>
              <a:gd name="textAreaLeft" fmla="*/ 88200 w 138240"/>
              <a:gd name="textAreaRight" fmla="*/ 138600 w 13824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080" y="356724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Réseau de neurones                   Réseaux de neurones                        CMAC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Albus 1975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             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(1)                                             (2)                                              (3)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7010280" y="1954080"/>
            <a:ext cx="1146240" cy="1105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04000" y="1916280"/>
            <a:ext cx="171360" cy="1152360"/>
          </a:xfrm>
          <a:custGeom>
            <a:avLst/>
            <a:gdLst>
              <a:gd name="textAreaLeft" fmla="*/ 109440 w 171360"/>
              <a:gd name="textAreaRight" fmla="*/ 171720 w 171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13720" y="3357720"/>
            <a:ext cx="187200" cy="1150920"/>
          </a:xfrm>
          <a:custGeom>
            <a:avLst/>
            <a:gdLst>
              <a:gd name="textAreaLeft" fmla="*/ 119520 w 187200"/>
              <a:gd name="textAreaRight" fmla="*/ 187560 w 1872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04000" y="4846680"/>
            <a:ext cx="187200" cy="1150920"/>
          </a:xfrm>
          <a:custGeom>
            <a:avLst/>
            <a:gdLst>
              <a:gd name="textAreaLeft" fmla="*/ 119520 w 187200"/>
              <a:gd name="textAreaRight" fmla="*/ 187560 w 1872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595920" y="2266920"/>
            <a:ext cx="37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07080" y="371160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91240" y="519732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132760" y="2328840"/>
            <a:ext cx="873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8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32760" y="3749760"/>
            <a:ext cx="87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8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23400" y="5219640"/>
            <a:ext cx="88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800" spc="-1" strike="noStrike" baseline="-25000">
                <a:solidFill>
                  <a:srgbClr val="463416"/>
                </a:solidFill>
                <a:latin typeface="Times New Roman"/>
              </a:rPr>
              <a:t>n</a:t>
            </a: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273800" y="434664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6"/>
          <a:stretch/>
        </p:blipFill>
        <p:spPr>
          <a:xfrm>
            <a:off x="7020000" y="3375000"/>
            <a:ext cx="1146240" cy="11048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7"/>
          <a:stretch/>
        </p:blipFill>
        <p:spPr>
          <a:xfrm>
            <a:off x="7020000" y="4854600"/>
            <a:ext cx="1146240" cy="11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4BC51-CFE0-4380-A2FD-42950D3BD9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appliquée à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320" y="11980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écomposition du processus de prise de décis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offrent une organisation en group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tructure hiérarchique de prise de décisions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adéquate des espaces d’états et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jeux de stratégie modernes utilisent une carte géographiqu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Adapter la granularité à l’aide d’un algorithme d’analyse automatique du terrain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Généralisation de la stratégi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pprocher la stratégie à l’aide d’approximateurs de fonction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Définition de bons scénarios d’apprentissag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Apprendre par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Jouer initialement contre un adversaire autre que soi-mêm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CBF8E-98E5-4653-8397-29A33A2262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Les jeux de stratégie moderne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40760" y="3095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340760" y="474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340760" y="14270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-1440" y="1201680"/>
            <a:ext cx="7323120" cy="566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5326200"/>
            <a:ext cx="515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 of Empires (Ensemble Studios / Microso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0" y="1201680"/>
            <a:ext cx="7323120" cy="5668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9280" y="4678200"/>
            <a:ext cx="3786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 of War (Eugen Systems / Atar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1201680"/>
            <a:ext cx="7323120" cy="5668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9280" y="5397480"/>
            <a:ext cx="5159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erial Glory (Pyro Studios / Eidos Interacti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0" y="1201680"/>
            <a:ext cx="7323120" cy="5668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5397480"/>
            <a:ext cx="4853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tleground (John Tiller Games / Talonso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3764F-FD02-479A-B062-3E689ED189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600"/>
                            </p:stCondLst>
                            <p:childTnLst>
                              <p:par>
                                <p:cTn id="1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200"/>
                            </p:stCondLst>
                            <p:childTnLst>
                              <p:par>
                                <p:cTn id="3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96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960"/>
                            </p:stCondLst>
                            <p:childTnLst>
                              <p:par>
                                <p:cTn id="5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Mécanisme d’amorçage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72480" y="1701720"/>
            <a:ext cx="1458720" cy="287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68480" y="1716120"/>
            <a:ext cx="1451160" cy="287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20960" y="1400040"/>
            <a:ext cx="1319400" cy="2890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9600" y="1397160"/>
            <a:ext cx="354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Armée contrôlée par l’IA appren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et par l’IA commerc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32040" y="3629160"/>
            <a:ext cx="57600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32040" y="4349880"/>
            <a:ext cx="57600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32040" y="2190600"/>
            <a:ext cx="57600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62160" y="434988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80760" y="4270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80760" y="35352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85800" y="28321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227240" y="26319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62160" y="362916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32040" y="5068800"/>
            <a:ext cx="57600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02280" y="2190600"/>
            <a:ext cx="93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Général d’Arm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62160" y="506880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87240" y="50086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227240" y="3352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227240" y="40719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227240" y="4792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452680" y="348120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452680" y="420048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452680" y="49212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452680" y="27604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27240" y="277668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27240" y="349560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7240" y="42163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27240" y="49370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2280" y="2909880"/>
            <a:ext cx="93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Général de Corps d’Arm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02280" y="3629160"/>
            <a:ext cx="93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Général de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02280" y="4349880"/>
            <a:ext cx="93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Général de Brig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02280" y="5068800"/>
            <a:ext cx="93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Times New Roman"/>
              </a:rPr>
              <a:t>Groupes de Combatt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56320" y="362916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56320" y="434988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89720" y="2909880"/>
            <a:ext cx="71928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56320" y="219060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86800" y="4349880"/>
            <a:ext cx="57600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05400" y="4270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05400" y="35352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10080" y="28321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851520" y="26319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786800" y="3629160"/>
            <a:ext cx="57600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719840" y="2909880"/>
            <a:ext cx="71928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6320" y="506880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86800" y="5068800"/>
            <a:ext cx="57600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11880" y="50086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851520" y="3352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851520" y="40719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851520" y="4792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077320" y="348120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8077320" y="420048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8077320" y="49212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8077320" y="27604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1520" y="277668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1520" y="349560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51520" y="421632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1520" y="493704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56440" y="1455840"/>
            <a:ext cx="23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Armée contrôlée p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Times New Roman"/>
              </a:rPr>
              <a:t>l’IA commerc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4800" y="203040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03880" y="203040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73000" y="291132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75040" y="2909880"/>
            <a:ext cx="71892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30240" y="36291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60720" y="3629160"/>
            <a:ext cx="57600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30240" y="434988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60720" y="4349880"/>
            <a:ext cx="57600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239840" y="263196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436840" y="27511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239840" y="277668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1241280" y="335448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467080" y="346860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41280" y="3497400"/>
            <a:ext cx="1225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243080" y="407052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468520" y="418464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43080" y="421308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243080" y="478476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468520" y="489888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43080" y="492768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45120" y="1368360"/>
            <a:ext cx="79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416"/>
                </a:solidFill>
                <a:latin typeface="Times New Roman"/>
              </a:rPr>
              <a:t>v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8DCC5-07B1-4006-AD9A-9658CFCCA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Démarche expérimentale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258920" y="2151000"/>
            <a:ext cx="6626160" cy="4592520"/>
            <a:chOff x="1258920" y="2151000"/>
            <a:chExt cx="6626160" cy="4592520"/>
          </a:xfrm>
        </p:grpSpPr>
        <p:sp>
          <p:nvSpPr>
            <p:cNvPr id="717" name=""/>
            <p:cNvSpPr txBox="1"/>
            <p:nvPr/>
          </p:nvSpPr>
          <p:spPr>
            <a:xfrm>
              <a:off x="1258920" y="2151000"/>
              <a:ext cx="6626160" cy="459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70440" y="2347920"/>
              <a:ext cx="2978280" cy="377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0960" bIns="3096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Plate-forme Napolectron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73760" y="2808000"/>
              <a:ext cx="2679480" cy="14702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0960" bIns="3096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Module d’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05520" y="5500440"/>
              <a:ext cx="2481120" cy="4460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62640" bIns="3096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Module systè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075120" y="4012920"/>
              <a:ext cx="1260360" cy="973440"/>
              <a:chOff x="3075120" y="4012920"/>
              <a:chExt cx="1260360" cy="973440"/>
            </a:xfrm>
          </p:grpSpPr>
          <p:sp>
            <p:nvSpPr>
              <p:cNvPr id="722" name=""/>
              <p:cNvSpPr/>
              <p:nvPr/>
            </p:nvSpPr>
            <p:spPr>
              <a:xfrm>
                <a:off x="3075120" y="4012920"/>
                <a:ext cx="1260360" cy="973440"/>
              </a:xfrm>
              <a:custGeom>
                <a:avLst/>
                <a:gdLst/>
                <a:ahLst/>
                <a:rect l="l" t="t" r="r" b="b"/>
                <a:pathLst>
                  <a:path w="843" h="674">
                    <a:moveTo>
                      <a:pt x="0" y="640"/>
                    </a:moveTo>
                    <a:lnTo>
                      <a:pt x="48" y="652"/>
                    </a:lnTo>
                    <a:lnTo>
                      <a:pt x="93" y="663"/>
                    </a:lnTo>
                    <a:lnTo>
                      <a:pt x="132" y="668"/>
                    </a:lnTo>
                    <a:lnTo>
                      <a:pt x="171" y="674"/>
                    </a:lnTo>
                    <a:lnTo>
                      <a:pt x="194" y="674"/>
                    </a:lnTo>
                    <a:lnTo>
                      <a:pt x="211" y="674"/>
                    </a:lnTo>
                    <a:lnTo>
                      <a:pt x="228" y="671"/>
                    </a:lnTo>
                    <a:lnTo>
                      <a:pt x="239" y="671"/>
                    </a:lnTo>
                    <a:lnTo>
                      <a:pt x="259" y="668"/>
                    </a:lnTo>
                    <a:lnTo>
                      <a:pt x="275" y="666"/>
                    </a:lnTo>
                    <a:lnTo>
                      <a:pt x="290" y="666"/>
                    </a:lnTo>
                    <a:lnTo>
                      <a:pt x="304" y="660"/>
                    </a:lnTo>
                    <a:lnTo>
                      <a:pt x="329" y="654"/>
                    </a:lnTo>
                    <a:lnTo>
                      <a:pt x="354" y="646"/>
                    </a:lnTo>
                    <a:lnTo>
                      <a:pt x="379" y="638"/>
                    </a:lnTo>
                    <a:lnTo>
                      <a:pt x="408" y="626"/>
                    </a:lnTo>
                    <a:lnTo>
                      <a:pt x="433" y="618"/>
                    </a:lnTo>
                    <a:lnTo>
                      <a:pt x="461" y="609"/>
                    </a:lnTo>
                    <a:lnTo>
                      <a:pt x="486" y="598"/>
                    </a:lnTo>
                    <a:lnTo>
                      <a:pt x="520" y="590"/>
                    </a:lnTo>
                    <a:lnTo>
                      <a:pt x="557" y="581"/>
                    </a:lnTo>
                    <a:lnTo>
                      <a:pt x="593" y="573"/>
                    </a:lnTo>
                    <a:lnTo>
                      <a:pt x="632" y="567"/>
                    </a:lnTo>
                    <a:lnTo>
                      <a:pt x="677" y="565"/>
                    </a:lnTo>
                    <a:lnTo>
                      <a:pt x="725" y="562"/>
                    </a:lnTo>
                    <a:lnTo>
                      <a:pt x="725" y="511"/>
                    </a:lnTo>
                    <a:lnTo>
                      <a:pt x="748" y="508"/>
                    </a:lnTo>
                    <a:lnTo>
                      <a:pt x="779" y="508"/>
                    </a:lnTo>
                    <a:lnTo>
                      <a:pt x="779" y="452"/>
                    </a:lnTo>
                    <a:lnTo>
                      <a:pt x="807" y="449"/>
                    </a:lnTo>
                    <a:lnTo>
                      <a:pt x="843" y="449"/>
                    </a:lnTo>
                    <a:lnTo>
                      <a:pt x="843" y="0"/>
                    </a:lnTo>
                    <a:lnTo>
                      <a:pt x="115" y="0"/>
                    </a:lnTo>
                    <a:lnTo>
                      <a:pt x="115" y="56"/>
                    </a:lnTo>
                    <a:lnTo>
                      <a:pt x="59" y="56"/>
                    </a:lnTo>
                    <a:lnTo>
                      <a:pt x="59" y="115"/>
                    </a:lnTo>
                    <a:lnTo>
                      <a:pt x="0" y="115"/>
                    </a:lnTo>
                    <a:lnTo>
                      <a:pt x="0" y="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075120" y="4012920"/>
                <a:ext cx="1260360" cy="973440"/>
              </a:xfrm>
              <a:custGeom>
                <a:avLst/>
                <a:gdLst/>
                <a:ahLst/>
                <a:rect l="l" t="t" r="r" b="b"/>
                <a:pathLst>
                  <a:path w="843" h="674">
                    <a:moveTo>
                      <a:pt x="0" y="640"/>
                    </a:moveTo>
                    <a:lnTo>
                      <a:pt x="48" y="652"/>
                    </a:lnTo>
                    <a:lnTo>
                      <a:pt x="93" y="663"/>
                    </a:lnTo>
                    <a:lnTo>
                      <a:pt x="132" y="668"/>
                    </a:lnTo>
                    <a:lnTo>
                      <a:pt x="171" y="674"/>
                    </a:lnTo>
                    <a:lnTo>
                      <a:pt x="194" y="674"/>
                    </a:lnTo>
                    <a:lnTo>
                      <a:pt x="211" y="674"/>
                    </a:lnTo>
                    <a:lnTo>
                      <a:pt x="228" y="671"/>
                    </a:lnTo>
                    <a:lnTo>
                      <a:pt x="239" y="671"/>
                    </a:lnTo>
                    <a:lnTo>
                      <a:pt x="259" y="668"/>
                    </a:lnTo>
                    <a:lnTo>
                      <a:pt x="275" y="666"/>
                    </a:lnTo>
                    <a:lnTo>
                      <a:pt x="290" y="666"/>
                    </a:lnTo>
                    <a:lnTo>
                      <a:pt x="304" y="660"/>
                    </a:lnTo>
                    <a:lnTo>
                      <a:pt x="329" y="654"/>
                    </a:lnTo>
                    <a:lnTo>
                      <a:pt x="354" y="646"/>
                    </a:lnTo>
                    <a:lnTo>
                      <a:pt x="379" y="638"/>
                    </a:lnTo>
                    <a:lnTo>
                      <a:pt x="408" y="626"/>
                    </a:lnTo>
                    <a:lnTo>
                      <a:pt x="433" y="618"/>
                    </a:lnTo>
                    <a:lnTo>
                      <a:pt x="461" y="609"/>
                    </a:lnTo>
                    <a:lnTo>
                      <a:pt x="486" y="598"/>
                    </a:lnTo>
                    <a:lnTo>
                      <a:pt x="520" y="590"/>
                    </a:lnTo>
                    <a:lnTo>
                      <a:pt x="557" y="581"/>
                    </a:lnTo>
                    <a:lnTo>
                      <a:pt x="593" y="573"/>
                    </a:lnTo>
                    <a:lnTo>
                      <a:pt x="632" y="567"/>
                    </a:lnTo>
                    <a:lnTo>
                      <a:pt x="677" y="565"/>
                    </a:lnTo>
                    <a:lnTo>
                      <a:pt x="725" y="562"/>
                    </a:lnTo>
                    <a:lnTo>
                      <a:pt x="725" y="511"/>
                    </a:lnTo>
                    <a:lnTo>
                      <a:pt x="748" y="508"/>
                    </a:lnTo>
                    <a:lnTo>
                      <a:pt x="779" y="508"/>
                    </a:lnTo>
                    <a:lnTo>
                      <a:pt x="779" y="452"/>
                    </a:lnTo>
                    <a:lnTo>
                      <a:pt x="807" y="449"/>
                    </a:lnTo>
                    <a:lnTo>
                      <a:pt x="843" y="449"/>
                    </a:lnTo>
                    <a:lnTo>
                      <a:pt x="843" y="0"/>
                    </a:lnTo>
                    <a:lnTo>
                      <a:pt x="115" y="0"/>
                    </a:lnTo>
                    <a:lnTo>
                      <a:pt x="115" y="56"/>
                    </a:lnTo>
                    <a:lnTo>
                      <a:pt x="59" y="56"/>
                    </a:lnTo>
                    <a:lnTo>
                      <a:pt x="59" y="115"/>
                    </a:lnTo>
                    <a:lnTo>
                      <a:pt x="0" y="115"/>
                    </a:lnTo>
                    <a:lnTo>
                      <a:pt x="0" y="64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62960" y="4178880"/>
                <a:ext cx="995760" cy="571680"/>
              </a:xfrm>
              <a:custGeom>
                <a:avLst/>
                <a:gdLst/>
                <a:ahLst/>
                <a:rect l="l" t="t" r="r" b="b"/>
                <a:pathLst>
                  <a:path w="666" h="396">
                    <a:moveTo>
                      <a:pt x="0" y="0"/>
                    </a:moveTo>
                    <a:lnTo>
                      <a:pt x="666" y="0"/>
                    </a:lnTo>
                    <a:lnTo>
                      <a:pt x="666" y="3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246840" y="4093560"/>
                <a:ext cx="992520" cy="571680"/>
              </a:xfrm>
              <a:custGeom>
                <a:avLst/>
                <a:gdLst/>
                <a:ahLst/>
                <a:rect l="l" t="t" r="r" b="b"/>
                <a:pathLst>
                  <a:path w="664" h="396">
                    <a:moveTo>
                      <a:pt x="0" y="0"/>
                    </a:moveTo>
                    <a:lnTo>
                      <a:pt x="664" y="0"/>
                    </a:lnTo>
                    <a:lnTo>
                      <a:pt x="664" y="3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3201840" y="4271760"/>
              <a:ext cx="8622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Fichiers de donné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476440" y="3992040"/>
              <a:ext cx="1800" cy="12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3699000" y="4968720"/>
              <a:ext cx="1440" cy="36036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5520" y="4948200"/>
              <a:ext cx="2481120" cy="4474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62640" bIns="3096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Moteur du je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79960" y="4514760"/>
              <a:ext cx="9460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720" rIns="63720" tIns="31680" bIns="3168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itu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94560" y="4437000"/>
              <a:ext cx="0" cy="398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5999040" y="4395240"/>
              <a:ext cx="0" cy="398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4160" y="4514760"/>
              <a:ext cx="787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720" rIns="63720" tIns="31680" bIns="3168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14680" y="4459320"/>
              <a:ext cx="36036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82680" y="5500440"/>
              <a:ext cx="2978280" cy="57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0960" bIns="3096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Jeu commerc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Battlegrou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84120" y="6406920"/>
              <a:ext cx="6600960" cy="33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720" rIns="63720" tIns="31680" bIns="3168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ystème d’exploi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67360" y="3622680"/>
              <a:ext cx="2481120" cy="5461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1320" bIns="396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eprésentation de l’état de l’environn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8" name="" descr=""/>
            <p:cNvPicPr/>
            <p:nvPr/>
          </p:nvPicPr>
          <p:blipFill>
            <a:blip r:embed="rId4"/>
            <a:stretch/>
          </p:blipFill>
          <p:spPr>
            <a:xfrm>
              <a:off x="7032600" y="2830320"/>
              <a:ext cx="592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5067360" y="3135240"/>
              <a:ext cx="2481120" cy="4474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62640" bIns="396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Prise de décis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0" name="" descr=""/>
            <p:cNvPicPr/>
            <p:nvPr/>
          </p:nvPicPr>
          <p:blipFill>
            <a:blip r:embed="rId5"/>
            <a:stretch/>
          </p:blipFill>
          <p:spPr>
            <a:xfrm>
              <a:off x="1274760" y="2182680"/>
              <a:ext cx="241452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6"/>
            <a:stretch/>
          </p:blipFill>
          <p:spPr>
            <a:xfrm>
              <a:off x="1411200" y="2307960"/>
              <a:ext cx="2141640" cy="124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79280" y="1186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3416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Évaluer l’approche STRADA sur le jeu commercial Battleground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3416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Comparer les performances des agents STRADA avec celles d’autres modèles d’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D96E7-43C4-4879-9594-549C66AEA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Expérimentations avec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r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, local et combin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634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3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 et loc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Communication simple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8324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8324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83240" y="24145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71372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132320" y="4494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132320" y="37591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137000" y="3056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778800" y="285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1372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48324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372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38800" y="5232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778800" y="357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778800" y="429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778800" y="501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8004240" y="370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004240" y="442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8004240" y="514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8004240" y="298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78800" y="300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78800" y="37195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78800" y="444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78800" y="5160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56360" y="225432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24560" y="313524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6240" y="313380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8180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1192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791400" y="285588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7988400" y="297504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791400" y="300024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792840" y="357840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018640" y="36925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92840" y="3720960"/>
            <a:ext cx="1225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5721480" y="1305000"/>
            <a:ext cx="1258920" cy="71892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5"/>
          <a:stretch/>
        </p:blipFill>
        <p:spPr>
          <a:xfrm>
            <a:off x="7072200" y="527040"/>
            <a:ext cx="1871640" cy="15112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5753160" y="142092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5 x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410600" y="105264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2 x 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75320" y="45813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705800" y="45813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788160" y="4301640"/>
            <a:ext cx="0" cy="28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8013600" y="441648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88160" y="444492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88160" y="501660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8013600" y="51307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88160" y="515952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7506-802D-4DB1-9FE0-49268B647E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Expérimentations avec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3333cc"/>
                </a:solidFill>
                <a:latin typeface="Arial"/>
              </a:rPr>
              <a:t>ère</a:t>
            </a: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3333cc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Renforcement glob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, local et combin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3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 et loc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Communication simple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48324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8324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83240" y="24145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1372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32320" y="4494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132320" y="37591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778800" y="285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1372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8324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1372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38800" y="5232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778800" y="357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778800" y="429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6778800" y="501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004240" y="370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8004240" y="442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8004240" y="514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8004240" y="298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78800" y="300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78800" y="37195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78800" y="444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778800" y="5160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56360" y="225432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4560" y="313524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6240" y="313380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791400" y="285588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988400" y="297504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791400" y="300024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2"/>
          <a:stretch/>
        </p:blipFill>
        <p:spPr>
          <a:xfrm>
            <a:off x="5721480" y="1305000"/>
            <a:ext cx="1258920" cy="718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13"/>
          <a:stretch/>
        </p:blipFill>
        <p:spPr>
          <a:xfrm>
            <a:off x="7072200" y="527040"/>
            <a:ext cx="1871640" cy="15112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5753160" y="142092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5 x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410600" y="105264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2 x 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445520" y="3357720"/>
            <a:ext cx="17928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45280" y="3357720"/>
            <a:ext cx="179280" cy="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225920" y="318456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8180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71192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6792840" y="357840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8018640" y="36925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92840" y="3720960"/>
            <a:ext cx="1225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61120" y="2360520"/>
            <a:ext cx="2305080" cy="12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37000" y="3056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475320" y="45813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705800" y="458136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788160" y="4301640"/>
            <a:ext cx="0" cy="28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013600" y="441648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8160" y="444492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788160" y="501660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8013600" y="51307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88160" y="515952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B3ABC-AFE2-414C-B1BE-A650B6DA58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4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50920" y="1268280"/>
            <a:ext cx="8569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Schéma de la prise de décision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Renforcement immédiat globa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49"/>
              </a:spcBef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Renforcement cumulatif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0" lang="fr-FR" sz="3200" spc="-1" strike="noStrike" baseline="30000">
                <a:solidFill>
                  <a:srgbClr val="463416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phase d’expérimentation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325760" y="4384800"/>
                <a:ext cx="2519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179280" y="4768920"/>
                <a:ext cx="8628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jectifsConquisArme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jectifsPerdusArme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tesAdversair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tesArme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3595680" y="5303880"/>
                <a:ext cx="36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579840" y="5943600"/>
                <a:ext cx="3368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7664400" y="1363680"/>
            <a:ext cx="1258920" cy="2890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64400" y="1724040"/>
            <a:ext cx="1258920" cy="2890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664400" y="2084400"/>
            <a:ext cx="1258920" cy="2890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36040" y="1353960"/>
            <a:ext cx="11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808760" y="172404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éat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707240" y="207504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64400" y="2444760"/>
            <a:ext cx="1258920" cy="289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80400" y="2444760"/>
            <a:ext cx="8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u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22520" y="3357720"/>
            <a:ext cx="0" cy="468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24440" y="3357720"/>
            <a:ext cx="0" cy="468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32480" y="3362400"/>
            <a:ext cx="0" cy="468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05200" y="213984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32280" y="212076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84800" y="2135160"/>
            <a:ext cx="0" cy="53964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11520" y="2116080"/>
            <a:ext cx="0" cy="53964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15160" y="213984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41880" y="212076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68360" y="1681200"/>
            <a:ext cx="446580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66920" y="2689200"/>
            <a:ext cx="144000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334600" y="225576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13560" y="226836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78200" y="2689200"/>
            <a:ext cx="144000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89480" y="2689200"/>
            <a:ext cx="144000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23920" y="22510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92800" y="225432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54280" y="225576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32880" y="226836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11000" y="337968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25520" y="337968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33560" y="339552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824280"/>
            <a:ext cx="4465800" cy="46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unités subor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l’IA d’amorçag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66920" y="1681200"/>
            <a:ext cx="4465800" cy="4492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66920" y="1681200"/>
            <a:ext cx="4465800" cy="4492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66920" y="1681200"/>
            <a:ext cx="4465800" cy="4492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66920" y="2687760"/>
            <a:ext cx="1440000" cy="66816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66920" y="2687760"/>
            <a:ext cx="1440000" cy="668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66920" y="2687760"/>
            <a:ext cx="1440000" cy="66816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778200" y="2687760"/>
            <a:ext cx="1440000" cy="66816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78200" y="2687760"/>
            <a:ext cx="1440000" cy="668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78200" y="2687760"/>
            <a:ext cx="1440000" cy="66816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89480" y="2687760"/>
            <a:ext cx="1440000" cy="66816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89480" y="2687760"/>
            <a:ext cx="1440000" cy="668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89480" y="2687760"/>
            <a:ext cx="1440000" cy="66816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1"/>
          <a:stretch/>
        </p:blipFill>
        <p:spPr>
          <a:xfrm>
            <a:off x="5235480" y="1671480"/>
            <a:ext cx="316080" cy="4492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12"/>
          <a:stretch/>
        </p:blipFill>
        <p:spPr>
          <a:xfrm>
            <a:off x="3395520" y="2914560"/>
            <a:ext cx="316080" cy="44928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3"/>
          <a:stretch/>
        </p:blipFill>
        <p:spPr>
          <a:xfrm>
            <a:off x="4913280" y="2917800"/>
            <a:ext cx="316080" cy="44928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4"/>
          <a:stretch/>
        </p:blipFill>
        <p:spPr>
          <a:xfrm>
            <a:off x="6415200" y="2914560"/>
            <a:ext cx="31572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E0312-CF17-42F8-A39C-94DEAF5E42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5130720"/>
            <a:ext cx="9016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a représentation de l’état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(32 variab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’espace d’actions 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pour chaque agent subordonné (33 actio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cénario 1 (carte 35 x 20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460440" y="5533920"/>
          <a:ext cx="4919760" cy="919440"/>
        </p:xfrm>
        <a:graphic>
          <a:graphicData uri="http://schemas.openxmlformats.org/drawingml/2006/table">
            <a:tbl>
              <a:tblPr/>
              <a:tblGrid>
                <a:gridCol w="1693800"/>
                <a:gridCol w="1028520"/>
                <a:gridCol w="1065240"/>
                <a:gridCol w="1132200"/>
              </a:tblGrid>
              <a:tr h="518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e l’environnement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6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s d’armé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5" name=""/>
          <p:cNvSpPr/>
          <p:nvPr/>
        </p:nvSpPr>
        <p:spPr>
          <a:xfrm>
            <a:off x="534960" y="16272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90520" y="4419720"/>
            <a:ext cx="3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70360" y="13287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86280" y="3489480"/>
            <a:ext cx="415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469360" y="2379600"/>
            <a:ext cx="31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202600" y="3703680"/>
            <a:ext cx="4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46280" y="1184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48160" y="35352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86400" y="313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481720" y="3738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89280" y="468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10240" y="11811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18240" y="3960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286840" y="2214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97320" y="3267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4120" y="28670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0880" y="34671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6"/>
          <a:stretch/>
        </p:blipFill>
        <p:spPr>
          <a:xfrm>
            <a:off x="6954840" y="5324400"/>
            <a:ext cx="1536840" cy="132408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8402760" y="558324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391600" y="5781600"/>
            <a:ext cx="876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381880" y="6014880"/>
            <a:ext cx="88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600" spc="-1" strike="noStrike" baseline="-25000">
                <a:solidFill>
                  <a:srgbClr val="463416"/>
                </a:solidFill>
                <a:latin typeface="Times New Roman"/>
              </a:rPr>
              <a:t>33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80600" y="585792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64480" y="5454720"/>
            <a:ext cx="137880" cy="936720"/>
          </a:xfrm>
          <a:custGeom>
            <a:avLst/>
            <a:gdLst>
              <a:gd name="textAreaLeft" fmla="*/ 88200 w 137880"/>
              <a:gd name="textAreaRight" fmla="*/ 138240 w 137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637320" y="573732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A5419-08DC-4DA6-A103-BDAC6A0C84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Résultats expérimentaux (scénario 1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9144000" cy="585144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1001880"/>
            <a:ext cx="9144000" cy="585612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0" y="993600"/>
            <a:ext cx="9144000" cy="586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E10DF-5C27-42A8-B5C7-D8E1793BBA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cénario 2 (carte 52 x 42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43243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833400"/>
            <a:ext cx="9144000" cy="432432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54200" y="106380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33600" y="186516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48240" y="12160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62720" y="105732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932040" y="42544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40080" y="2475000"/>
            <a:ext cx="144720" cy="144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72200" y="2981160"/>
            <a:ext cx="144360" cy="144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9520" y="2987640"/>
            <a:ext cx="144360" cy="144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883640" y="23288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84880" y="4157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0000" y="497052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849320" y="1486080"/>
            <a:ext cx="43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98440" y="13032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166760" y="449568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627280" y="270828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24360" y="314172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59280" y="42210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462880" y="106992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551640" y="1684440"/>
            <a:ext cx="43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118360" y="271296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48360" y="3213000"/>
            <a:ext cx="64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38920" y="4289400"/>
            <a:ext cx="64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32560" y="10666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48120" y="220356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53040" y="27320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59520" y="311940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976640" y="271944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5130720"/>
            <a:ext cx="9016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a représentation de l’état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(64 variab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’espace d’actions 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pour chaque agent subordonné (49 actio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7"/>
          <a:stretch/>
        </p:blipFill>
        <p:spPr>
          <a:xfrm>
            <a:off x="6954840" y="5324400"/>
            <a:ext cx="1536840" cy="132408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6864480" y="5454720"/>
            <a:ext cx="137880" cy="936720"/>
          </a:xfrm>
          <a:custGeom>
            <a:avLst/>
            <a:gdLst>
              <a:gd name="textAreaLeft" fmla="*/ 88200 w 137880"/>
              <a:gd name="textAreaRight" fmla="*/ 138240 w 137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637320" y="573732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402760" y="558324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391600" y="5781600"/>
            <a:ext cx="876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81880" y="6014880"/>
            <a:ext cx="88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600" spc="-1" strike="noStrike" baseline="-25000">
                <a:solidFill>
                  <a:srgbClr val="463416"/>
                </a:solidFill>
                <a:latin typeface="Times New Roman"/>
              </a:rPr>
              <a:t>49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580600" y="585792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374760" y="5532480"/>
          <a:ext cx="6099120" cy="914400"/>
        </p:xfrm>
        <a:graphic>
          <a:graphicData uri="http://schemas.openxmlformats.org/drawingml/2006/table">
            <a:tbl>
              <a:tblPr/>
              <a:tblGrid>
                <a:gridCol w="1693800"/>
                <a:gridCol w="704880"/>
                <a:gridCol w="704880"/>
                <a:gridCol w="704880"/>
                <a:gridCol w="704880"/>
                <a:gridCol w="793440"/>
                <a:gridCol w="792360"/>
              </a:tblGrid>
              <a:tr h="518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6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e l’environnement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s d’armé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231A6-A635-4BB0-8CE5-7204868C18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Résultats expérimentaux (scénario 2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>
            <a:off x="0" y="993600"/>
            <a:ext cx="9144000" cy="586440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714240" y="2063880"/>
            <a:ext cx="6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Arial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008080" y="2076480"/>
            <a:ext cx="57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59D08-9ADC-458B-987D-8E005E3260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Expérimentations avec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r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fr-FR" sz="2200" spc="-1" strike="noStrike" baseline="30000">
                <a:solidFill>
                  <a:srgbClr val="3333cc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fr-FR" sz="1800" spc="-1" strike="noStrike" baseline="30000">
                <a:solidFill>
                  <a:srgbClr val="3333cc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Renforcement global, local et combin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3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 et loc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Communication simple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8324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8324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483240" y="24145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1372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132320" y="4494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778800" y="285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1372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8324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1372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38800" y="5232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778800" y="357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6778800" y="429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778800" y="501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8004240" y="370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8004240" y="442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8004240" y="514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8004240" y="298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78800" y="300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78800" y="37195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78800" y="444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78800" y="5160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56360" y="225432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424560" y="313524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6240" y="313380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8180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711920" y="38527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6791400" y="285588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7988400" y="297504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91400" y="300024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792840" y="357840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8018640" y="369252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92840" y="3720960"/>
            <a:ext cx="1225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61120" y="2360520"/>
            <a:ext cx="2305080" cy="200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1"/>
          <a:stretch/>
        </p:blipFill>
        <p:spPr>
          <a:xfrm>
            <a:off x="6740640" y="1305000"/>
            <a:ext cx="1258920" cy="7189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6772320" y="142092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5 x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445520" y="3357720"/>
            <a:ext cx="17928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45280" y="3357720"/>
            <a:ext cx="179280" cy="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225920" y="318456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451640" y="4078440"/>
            <a:ext cx="25236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66080" y="4078440"/>
            <a:ext cx="252360" cy="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222680" y="390528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10DDA-C1A7-4FEE-88DC-8129152BC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640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Contexte et problématique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" y="123516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Intelligence Artificielle permet aux joueurs de jouer lorsque :</a:t>
            </a:r>
            <a:endParaRPr b="0" lang="en-US" sz="21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il n’y a pas d’autres joueurs disponibles  </a:t>
            </a: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 Adversaires artificiel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Ils ne veulent contrôler que partiellement leurs unités  </a:t>
            </a:r>
            <a:r>
              <a:rPr b="1" lang="fr-FR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 Assista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Cette IA doit offrir un comportement crédible afin de rendre les parties amusantes et intéressantes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[Nareyek 2002, 2004]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daptation aux nouvelles situation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Proposition d’expériences nouvelles aux joueur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567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Cependant, les systèmes à base de règles dominent le développement industriel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[Rabin 2002, 2003, 2006]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aisonnement figé et programmation difficil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Des joueurs expérimentés peuvent facilement repérer la stratégie adopté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D9778-7737-4388-8D61-1427706E84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250560" y="1244160"/>
            <a:ext cx="856908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188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Schéma de la prise de décisions</a:t>
            </a: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88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Renforcement immédiat</a:t>
            </a: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core global (1)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core local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524"/>
              </a:spcBef>
              <a:buSzPct val="17640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Arial"/>
              </a:rPr>
              <a:t>objectifs conquis (2)</a:t>
            </a:r>
            <a:endParaRPr b="0" lang="en-US" sz="1400" spc="-1" strike="noStrike">
              <a:solidFill>
                <a:srgbClr val="463416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524"/>
              </a:spcBef>
              <a:buSzPct val="17640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3416"/>
                </a:solidFill>
                <a:latin typeface="Arial"/>
              </a:rPr>
              <a:t>Ordres accomplis (3)</a:t>
            </a:r>
            <a:endParaRPr b="0" lang="en-US" sz="1400" spc="-1" strike="noStrike">
              <a:solidFill>
                <a:srgbClr val="463416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Score combiné (1 + 2 + 3)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0" lang="fr-FR" sz="3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phase d’expérimentation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547640" y="1600200"/>
            <a:ext cx="5688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    </a:t>
            </a: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(stratégie apprise dans la 1</a:t>
            </a:r>
            <a:r>
              <a:rPr b="1" lang="fr-FR" sz="1600" spc="-1" strike="noStrike" baseline="30000">
                <a:solidFill>
                  <a:srgbClr val="a50021"/>
                </a:solidFill>
                <a:latin typeface="Times New Roman"/>
              </a:rPr>
              <a:t>ère</a:t>
            </a: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 pha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8" name="" descr=""/>
          <p:cNvPicPr/>
          <p:nvPr/>
        </p:nvPicPr>
        <p:blipFill>
          <a:blip r:embed="rId8"/>
          <a:stretch/>
        </p:blipFill>
        <p:spPr>
          <a:xfrm>
            <a:off x="3537000" y="1603440"/>
            <a:ext cx="315720" cy="4492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24000" y="2427120"/>
            <a:ext cx="25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120320" y="212256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19360" y="20750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02240" y="214164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871640" y="20430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03640" y="2427120"/>
            <a:ext cx="252072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4720" y="2427120"/>
            <a:ext cx="251964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21178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41960" y="20700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29520" y="212868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94240" y="203832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39960" y="212256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64200" y="20750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56800" y="212868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16840" y="20430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4000" y="4264200"/>
            <a:ext cx="835344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es unités subordonné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(l’IA d’amorçag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6600" y="3278160"/>
            <a:ext cx="107928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4120" y="3863880"/>
            <a:ext cx="0" cy="3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260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22320" y="3863880"/>
            <a:ext cx="0" cy="3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2376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57200" y="33498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8000" y="295920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09640" y="289872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54360" y="297828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36720" y="288612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768320" y="3278160"/>
            <a:ext cx="107964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11560" y="3278160"/>
            <a:ext cx="107928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4756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9872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32160" y="33498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43280" y="3278160"/>
            <a:ext cx="107964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0040" y="3278160"/>
            <a:ext cx="107964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127920" y="3863880"/>
            <a:ext cx="0" cy="3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11640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66120" y="3863880"/>
            <a:ext cx="0" cy="3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67200" y="385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00640" y="33498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12120" y="3278160"/>
            <a:ext cx="1079280" cy="5824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263760" y="3868560"/>
            <a:ext cx="0" cy="395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91160" y="3865680"/>
            <a:ext cx="0" cy="3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58520" y="295920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57560" y="289872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99040" y="297828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384280" y="288612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87360" y="29638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699000" y="29034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53080" y="297036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25720" y="28908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47520" y="29638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46560" y="29034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301000" y="297036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273640" y="289080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959080" y="296712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58120" y="29066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12200" y="297324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84840" y="28940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94040" y="296712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005680" y="29066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160120" y="299232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132760" y="2894040"/>
            <a:ext cx="0" cy="360360"/>
          </a:xfrm>
          <a:prstGeom prst="line">
            <a:avLst/>
          </a:prstGeom>
          <a:ln cap="sq" w="572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760" y="2424240"/>
            <a:ext cx="2519280" cy="4492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17520" y="2421000"/>
            <a:ext cx="2519280" cy="4492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00400" y="2424240"/>
            <a:ext cx="2521080" cy="4492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97160" y="2421000"/>
            <a:ext cx="2521080" cy="4492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081840" y="2424240"/>
            <a:ext cx="2519280" cy="4492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78600" y="2421000"/>
            <a:ext cx="2519280" cy="4492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3360" y="3274920"/>
            <a:ext cx="107964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30120" y="3281400"/>
            <a:ext cx="107964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65440" y="3274920"/>
            <a:ext cx="107928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762200" y="3281400"/>
            <a:ext cx="107928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208320" y="3274920"/>
            <a:ext cx="107964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205080" y="3281400"/>
            <a:ext cx="107964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0400" y="3274920"/>
            <a:ext cx="107928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37160" y="3281400"/>
            <a:ext cx="107928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76800" y="3274920"/>
            <a:ext cx="107964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73920" y="3281400"/>
            <a:ext cx="107928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508880" y="3274920"/>
            <a:ext cx="1079640" cy="5857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505640" y="3281400"/>
            <a:ext cx="1079640" cy="5792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788240" y="496800"/>
            <a:ext cx="1258920" cy="2890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788240" y="857160"/>
            <a:ext cx="1258920" cy="2890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788240" y="1217520"/>
            <a:ext cx="1258920" cy="2890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859880" y="487440"/>
            <a:ext cx="11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32600" y="85716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éat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831080" y="120816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788240" y="1577880"/>
            <a:ext cx="1258920" cy="289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004240" y="1577880"/>
            <a:ext cx="8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u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4000" y="2417760"/>
            <a:ext cx="2519280" cy="4492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03640" y="2417760"/>
            <a:ext cx="2520720" cy="4492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84720" y="2417760"/>
            <a:ext cx="2519640" cy="4492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3278160"/>
            <a:ext cx="107928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768320" y="3278160"/>
            <a:ext cx="107964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211560" y="3278160"/>
            <a:ext cx="107928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643280" y="3278160"/>
            <a:ext cx="107964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Cor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80040" y="3278160"/>
            <a:ext cx="107964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512120" y="3278160"/>
            <a:ext cx="1079280" cy="57960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néral de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Garde Imp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9"/>
          <a:stretch/>
        </p:blipFill>
        <p:spPr>
          <a:xfrm>
            <a:off x="2355840" y="2425680"/>
            <a:ext cx="316080" cy="44928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10"/>
          <a:stretch/>
        </p:blipFill>
        <p:spPr>
          <a:xfrm>
            <a:off x="8101080" y="2428920"/>
            <a:ext cx="315720" cy="44928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1"/>
          <a:stretch/>
        </p:blipFill>
        <p:spPr>
          <a:xfrm>
            <a:off x="5148360" y="2425680"/>
            <a:ext cx="315720" cy="4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D099D-929E-4329-9BF6-D0D395F4F6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5130720"/>
            <a:ext cx="9016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a représentation de l’état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(35 variab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’espace d’actions 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pour chaque agent subordonné (37 actio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cénario 1 (carte 35 x 20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1131" name="" descr=""/>
          <p:cNvPicPr/>
          <p:nvPr/>
        </p:nvPicPr>
        <p:blipFill>
          <a:blip r:embed="rId5"/>
          <a:stretch/>
        </p:blipFill>
        <p:spPr>
          <a:xfrm>
            <a:off x="0" y="844560"/>
            <a:ext cx="9144000" cy="431784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0" y="84456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496800" y="13986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744560" y="2421000"/>
            <a:ext cx="43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41840" y="109044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64280" y="171288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59520" y="235908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240" y="44514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73560" y="346716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73680" y="254628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49920" y="380052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459640" y="2440080"/>
            <a:ext cx="43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640560" y="456552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885080" y="356544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790720" y="461016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46280" y="1184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48160" y="35352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486400" y="313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1720" y="3738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9280" y="468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710240" y="11811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18240" y="3960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286840" y="2214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65480" y="11779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5720" y="30193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06720" y="34480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267160" y="284796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273640" y="38862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7"/>
          <a:stretch/>
        </p:blipFill>
        <p:spPr>
          <a:xfrm>
            <a:off x="6954840" y="5324400"/>
            <a:ext cx="1536840" cy="132408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8402760" y="558324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391600" y="5781600"/>
            <a:ext cx="876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381880" y="6014880"/>
            <a:ext cx="88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600" spc="-1" strike="noStrike" baseline="-25000">
                <a:solidFill>
                  <a:srgbClr val="463416"/>
                </a:solidFill>
                <a:latin typeface="Times New Roman"/>
              </a:rPr>
              <a:t>37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80600" y="585792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64480" y="5454720"/>
            <a:ext cx="137880" cy="936720"/>
          </a:xfrm>
          <a:custGeom>
            <a:avLst/>
            <a:gdLst>
              <a:gd name="textAreaLeft" fmla="*/ 88200 w 137880"/>
              <a:gd name="textAreaRight" fmla="*/ 138240 w 137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637320" y="573732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37360" y="488808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3600" y="48783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289080" y="5533920"/>
          <a:ext cx="6046560" cy="919440"/>
        </p:xfrm>
        <a:graphic>
          <a:graphicData uri="http://schemas.openxmlformats.org/drawingml/2006/table">
            <a:tbl>
              <a:tblPr/>
              <a:tblGrid>
                <a:gridCol w="1126800"/>
                <a:gridCol w="1693800"/>
                <a:gridCol w="1028880"/>
                <a:gridCol w="1065240"/>
                <a:gridCol w="1131840"/>
              </a:tblGrid>
              <a:tr h="518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re Reç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e l’environnement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6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tion 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érie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9" name=""/>
          <p:cNvSpPr/>
          <p:nvPr/>
        </p:nvSpPr>
        <p:spPr>
          <a:xfrm>
            <a:off x="7112160" y="18111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B37CB-1FE0-4E6D-A365-77F3D2CCC3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79280" y="90360"/>
            <a:ext cx="87854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Résultats expérimentaux (Scénario 1 - attaque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5468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4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5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90175-37D7-49FF-8168-48A6B2FFEA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42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Expérimentations avec Battleground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r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2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463416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2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nforcement global, local et combiné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ans communication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fr-FR" sz="2200" spc="-1" strike="noStrike" baseline="30000">
                <a:solidFill>
                  <a:srgbClr val="3333cc"/>
                </a:solidFill>
                <a:latin typeface="Arial"/>
              </a:rPr>
              <a:t>ème</a:t>
            </a:r>
            <a:r>
              <a:rPr b="1" lang="fr-FR" sz="2200" spc="-1" strike="noStrike">
                <a:solidFill>
                  <a:srgbClr val="3333cc"/>
                </a:solidFill>
                <a:latin typeface="Arial"/>
              </a:rPr>
              <a:t> phase</a:t>
            </a:r>
            <a:endParaRPr b="0" lang="en-US" sz="2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fr-FR" sz="1800" spc="-1" strike="noStrike" baseline="30000">
                <a:solidFill>
                  <a:srgbClr val="3333cc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Renforcement global et local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Communication simple entre les age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48324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48324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483240" y="2414520"/>
            <a:ext cx="5763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13720" y="457344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132320" y="4494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132320" y="37591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6778800" y="285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713720" y="3852720"/>
            <a:ext cx="576360" cy="44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48324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713720" y="5292720"/>
            <a:ext cx="576360" cy="449280"/>
          </a:xfrm>
          <a:prstGeom prst="rect">
            <a:avLst/>
          </a:prstGeom>
          <a:solidFill>
            <a:srgbClr val="c0c0c0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138800" y="5232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778800" y="357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778800" y="4295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6778800" y="50166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8004240" y="370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004240" y="442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8004240" y="5145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8004240" y="29844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778800" y="300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778800" y="37195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78800" y="444024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78800" y="5160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56360" y="2254320"/>
            <a:ext cx="2521080" cy="3673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424560" y="313524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26240" y="3133800"/>
            <a:ext cx="71928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Times New Roman"/>
              </a:rPr>
              <a:t>G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791400" y="2855880"/>
            <a:ext cx="0" cy="28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7988400" y="2975040"/>
            <a:ext cx="0" cy="169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791400" y="3000240"/>
            <a:ext cx="1225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45280" y="3357720"/>
            <a:ext cx="468360" cy="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61120" y="2360520"/>
            <a:ext cx="2305080" cy="12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0"/>
          <a:stretch/>
        </p:blipFill>
        <p:spPr>
          <a:xfrm>
            <a:off x="6740640" y="1305000"/>
            <a:ext cx="1258920" cy="71892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6772320" y="142092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5 x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0B3A0-80C4-4671-B2DB-171528B5BD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092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Schéma de la prise de décision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63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63"/>
              </a:spcBef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63"/>
              </a:spcBef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Renforcement immédia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63"/>
              </a:spcBef>
              <a:buSzPct val="1028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463416"/>
                </a:solidFill>
                <a:latin typeface="Arial"/>
              </a:rPr>
              <a:t>Score glob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63"/>
              </a:spcBef>
              <a:buSzPct val="1028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463416"/>
                </a:solidFill>
                <a:latin typeface="Arial"/>
              </a:rPr>
              <a:t>Score local (objectifs conqui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Communication de l’action exécuté par les partenaires dans le tour précéden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3</a:t>
            </a:r>
            <a:r>
              <a:rPr b="0" lang="fr-FR" sz="32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 phase d’expérimentations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664400" y="1363680"/>
            <a:ext cx="1258920" cy="2890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64400" y="1724040"/>
            <a:ext cx="1258920" cy="2890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64400" y="2084400"/>
            <a:ext cx="1258920" cy="2890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736040" y="1353960"/>
            <a:ext cx="11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808760" y="172404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éat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07240" y="207504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664400" y="2444760"/>
            <a:ext cx="1258920" cy="289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880400" y="2444760"/>
            <a:ext cx="8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u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79640" y="3567240"/>
            <a:ext cx="0" cy="468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14720" y="3567240"/>
            <a:ext cx="0" cy="468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37200" y="3571920"/>
            <a:ext cx="0" cy="468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362320" y="234936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89040" y="233028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375080" y="2344680"/>
            <a:ext cx="0" cy="53964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502160" y="232560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9880" y="234936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46960" y="2330280"/>
            <a:ext cx="0" cy="540000"/>
          </a:xfrm>
          <a:prstGeom prst="line">
            <a:avLst/>
          </a:prstGeom>
          <a:ln cap="sq"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050920" y="1890720"/>
            <a:ext cx="4826160" cy="44928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724040" y="2898720"/>
            <a:ext cx="144000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91720" y="24652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0320" y="247824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768840" y="2898720"/>
            <a:ext cx="143964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94200" y="2898720"/>
            <a:ext cx="1440000" cy="668520"/>
          </a:xfrm>
          <a:prstGeom prst="rect">
            <a:avLst/>
          </a:prstGeom>
          <a:solidFill>
            <a:srgbClr val="e5d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14200" y="246060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483440" y="246384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59000" y="2465280"/>
            <a:ext cx="586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537600" y="2478240"/>
            <a:ext cx="77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968120" y="358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15800" y="358920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038280" y="3605040"/>
            <a:ext cx="1249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trôlé 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’IA d’amorç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4033800"/>
            <a:ext cx="5616360" cy="46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unités subor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l’IA d’amorçag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50920" y="1890720"/>
            <a:ext cx="4826160" cy="44928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050920" y="1890720"/>
            <a:ext cx="4826160" cy="4492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050920" y="1890720"/>
            <a:ext cx="4826160" cy="4492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mpereur Napoléon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724040" y="2895480"/>
            <a:ext cx="1440000" cy="6685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24040" y="2895480"/>
            <a:ext cx="1440000" cy="6685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24040" y="2895480"/>
            <a:ext cx="1440000" cy="66852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Dav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1er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768840" y="2895480"/>
            <a:ext cx="1439640" cy="6685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768840" y="2895480"/>
            <a:ext cx="1439640" cy="6685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68840" y="2895480"/>
            <a:ext cx="1439640" cy="66852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3ème Corps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94200" y="2895480"/>
            <a:ext cx="1440000" cy="66852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4200" y="2895480"/>
            <a:ext cx="1440000" cy="6685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4200" y="2895480"/>
            <a:ext cx="1440000" cy="66852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réchal Mort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(Garde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mpériale)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13"/>
          <a:stretch/>
        </p:blipFill>
        <p:spPr>
          <a:xfrm>
            <a:off x="5235480" y="1881360"/>
            <a:ext cx="316080" cy="44892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14"/>
          <a:stretch/>
        </p:blipFill>
        <p:spPr>
          <a:xfrm>
            <a:off x="2852640" y="3124080"/>
            <a:ext cx="316080" cy="44928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15"/>
          <a:stretch/>
        </p:blipFill>
        <p:spPr>
          <a:xfrm>
            <a:off x="4903920" y="3127320"/>
            <a:ext cx="315720" cy="44928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6"/>
          <a:stretch/>
        </p:blipFill>
        <p:spPr>
          <a:xfrm>
            <a:off x="6919920" y="3124080"/>
            <a:ext cx="316080" cy="44928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3174840" y="3244680"/>
            <a:ext cx="57636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210280" y="3241800"/>
            <a:ext cx="57600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951CF-6655-4C26-B82A-3A8B3ECAFF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0" y="5740560"/>
            <a:ext cx="9144000" cy="111744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5130720"/>
            <a:ext cx="9016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a représentation de l’état </a:t>
            </a:r>
            <a:r>
              <a:rPr b="1" i="1" lang="fr-FR" sz="20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(38 variab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L’espace d’actions 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 pour chaque agent subordonné (33 actio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Scénario 1 (carte 35 x 20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136440" y="5506920"/>
          <a:ext cx="6454800" cy="960480"/>
        </p:xfrm>
        <a:graphic>
          <a:graphicData uri="http://schemas.openxmlformats.org/drawingml/2006/table">
            <a:tbl>
              <a:tblPr/>
              <a:tblGrid>
                <a:gridCol w="1498680"/>
                <a:gridCol w="1693800"/>
                <a:gridCol w="1157040"/>
                <a:gridCol w="1079640"/>
                <a:gridCol w="1025640"/>
              </a:tblGrid>
              <a:tr h="518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res exécut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tion de l’environnement du grou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6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 de chaq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enai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s d’armé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e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1" name=""/>
          <p:cNvSpPr/>
          <p:nvPr/>
        </p:nvSpPr>
        <p:spPr>
          <a:xfrm>
            <a:off x="534960" y="1627200"/>
            <a:ext cx="43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0520" y="4419720"/>
            <a:ext cx="3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70360" y="13287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86280" y="3489480"/>
            <a:ext cx="415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469360" y="2379600"/>
            <a:ext cx="31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2600" y="3703680"/>
            <a:ext cx="4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46280" y="118440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448160" y="35352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486400" y="313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481720" y="3738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689280" y="468324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710240" y="118116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18240" y="3960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286840" y="22147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97320" y="3267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4120" y="28670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330880" y="34671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6"/>
          <a:stretch/>
        </p:blipFill>
        <p:spPr>
          <a:xfrm>
            <a:off x="6954840" y="5324400"/>
            <a:ext cx="1536840" cy="13240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8402760" y="558324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391600" y="5781600"/>
            <a:ext cx="876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lang="fr-FR" sz="1600" spc="-1" strike="noStrike" baseline="-25000">
                <a:solidFill>
                  <a:srgbClr val="463416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381880" y="6014880"/>
            <a:ext cx="88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Q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(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,</a:t>
            </a:r>
            <a:r>
              <a:rPr b="1" i="1" lang="fr-FR" sz="1600" spc="-1" strike="noStrike">
                <a:solidFill>
                  <a:srgbClr val="463416"/>
                </a:solidFill>
                <a:latin typeface="Times New Roman"/>
              </a:rPr>
              <a:t>a</a:t>
            </a:r>
            <a:r>
              <a:rPr b="1" i="1" lang="fr-FR" sz="1600" spc="-1" strike="noStrike" baseline="-25000">
                <a:solidFill>
                  <a:srgbClr val="463416"/>
                </a:solidFill>
                <a:latin typeface="Times New Roman"/>
              </a:rPr>
              <a:t>33</a:t>
            </a: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580600" y="5857920"/>
            <a:ext cx="37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64480" y="5454720"/>
            <a:ext cx="137880" cy="936720"/>
          </a:xfrm>
          <a:custGeom>
            <a:avLst/>
            <a:gdLst>
              <a:gd name="textAreaLeft" fmla="*/ 88200 w 137880"/>
              <a:gd name="textAreaRight" fmla="*/ 138240 w 137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637320" y="5737320"/>
            <a:ext cx="37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63416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A6A35-976B-4B42-9F72-C38552ED6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79280" y="90360"/>
            <a:ext cx="87854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Résultats expérimentaux (Scénario 1 - attaque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0" y="1020600"/>
            <a:ext cx="9144000" cy="583740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0" y="1017720"/>
            <a:ext cx="9144000" cy="584028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0" y="1017720"/>
            <a:ext cx="9144000" cy="584028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5"/>
          <a:stretch/>
        </p:blipFill>
        <p:spPr>
          <a:xfrm>
            <a:off x="0" y="101448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C7540-1B0E-412B-A14E-6B0C64AB9B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79280" y="90360"/>
            <a:ext cx="87854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Résultats expérimentaux (Scénario 1 - défense)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2912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3380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9144000" cy="58338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8338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/>
          <p:cNvPicPr/>
          <p:nvPr/>
        </p:nvPicPr>
        <p:blipFill>
          <a:blip r:embed="rId5"/>
          <a:stretch/>
        </p:blipFill>
        <p:spPr>
          <a:xfrm>
            <a:off x="0" y="1052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36DD2-7333-4917-831E-9ADAB2A3C9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De très bons résultats ont été obtenus</a:t>
            </a:r>
            <a:endParaRPr b="0" lang="en-US" sz="21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S</a:t>
            </a: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a largement dépassée les performances du système commercial en réapprenant juste une partie de la stratég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Quelques milliers d’épisodes d’apprentissage ont été suffisa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 renforcement global est la clé pour le 1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Un renforcement combiné est nécessaire à partir du 2</a:t>
            </a:r>
            <a:r>
              <a:rPr b="1" lang="fr-FR" sz="1800" spc="-1" strike="noStrike" baseline="30000">
                <a:solidFill>
                  <a:srgbClr val="463416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 niveau de la hiérarch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a communication permet un apprentissage plus stabl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567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On peut approfondir évaluation de S</a:t>
            </a: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afin d’obtenir des résultats plus performant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26"/>
              </a:spcBef>
              <a:buSzPct val="15159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Il faut une combinaison adéquate des différents types de renforcement</a:t>
            </a: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26"/>
              </a:spcBef>
              <a:buSzPct val="15159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Il faut une stratégie efficace pour la coordination entre les agents</a:t>
            </a:r>
            <a:endParaRPr b="0" lang="en-US" sz="19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3416"/>
                </a:solidFill>
                <a:latin typeface="Arial"/>
              </a:rPr>
              <a:t>Conclusions expérimentales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61D62-A867-4016-A2AF-F38B2897D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1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Nous avons conçu S</a:t>
            </a: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 pour la génération automatique de stratégies dans le cadre des jeux de stratégie modernes</a:t>
            </a:r>
            <a:endParaRPr b="0" lang="en-US" sz="21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Décomposition hiérarchique de la prise de décision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Représentation adéquate des espaces d’états et d’action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Généralisation de la stratégi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Amorçage du processus d’apprentissage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SzPct val="15673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L’efficacité de S</a:t>
            </a:r>
            <a:r>
              <a:rPr b="1" lang="fr-FR" sz="19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2100" spc="-1" strike="noStrike">
                <a:solidFill>
                  <a:srgbClr val="463416"/>
                </a:solidFill>
                <a:latin typeface="Arial"/>
              </a:rPr>
              <a:t> et la cohérence des représentations générées ont été évaluées sur le jeu Battleground</a:t>
            </a:r>
            <a:endParaRPr b="0" lang="en-US" sz="21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Plusieurs versions des agents apprenants ont été expérimenté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a généralité de l’approche a été testée sur deux scénarios de jeu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Trois modèles d’agents ont été utilisés pour comparer les performanc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résultats obtenus sont tout à fait encourageant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323640" y="90360"/>
            <a:ext cx="79707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341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08E6A-508A-4064-8E35-870E9A6A50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3" dur="500"/>
                                        <p:tgtEl>
                                          <p:spTgt spid="1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6" dur="500"/>
                                        <p:tgtEl>
                                          <p:spTgt spid="1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9" dur="500"/>
                                        <p:tgtEl>
                                          <p:spTgt spid="1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1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5" dur="500"/>
                                        <p:tgtEl>
                                          <p:spTgt spid="1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pprentissage automatique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Concevoir automatiquement des stratégies efficace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Utile dans le cadre des problèmes où :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es stratégies efficaces sont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inconnues </a:t>
            </a:r>
            <a:r>
              <a:rPr b="1" i="1" lang="fr-FR" sz="1800" spc="-1" strike="noStrike">
                <a:solidFill>
                  <a:srgbClr val="463416"/>
                </a:solidFill>
                <a:latin typeface="Arial"/>
              </a:rPr>
              <a:t>a priori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difficilement automatisabl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l’environnement évolue de manière incertaine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L’apprentissage en ligne est bien adapté aux jeux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Il ne requiert pas de superviseur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Il repose sur le principe d’essai/erreur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Il s’appuie sur une estimation anticipée d’un renforcement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6600" y="90360"/>
            <a:ext cx="9036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463416"/>
                </a:solidFill>
                <a:latin typeface="Arial"/>
              </a:rPr>
              <a:t>Solutions alternatives pour les jeux de stratégie modernes</a:t>
            </a:r>
            <a:endParaRPr b="0" lang="en-US" sz="27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AD606-7C4B-4BED-89A9-7F82FA5232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79280" y="90360"/>
            <a:ext cx="8964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3416"/>
                </a:solidFill>
                <a:latin typeface="Arial"/>
              </a:rPr>
              <a:t>Perspectives futures (appliquées aux jeux)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56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Trouver un bon compromis pour la combinaison des différents types de renforcement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mélioration des stratégies apprises en jouant contre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Les agents adversaires S</a:t>
            </a: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TRADA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Des joueurs humains expert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daptation de S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 aux jeux de stratégie en temps réel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Les joueurs sont-ils amusés davantage par des agents S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TRADA</a:t>
            </a: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 ?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[Demasi et Cruz 2002][Andrade et al. 2005, 2006]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4EA94-1BC0-4CF9-8992-37754100AB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640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3416"/>
                </a:solidFill>
                <a:latin typeface="Arial"/>
              </a:rPr>
              <a:t>Perspectives futures (théoriques)</a:t>
            </a:r>
            <a:endParaRPr b="0" lang="en-US" sz="36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821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utomatisation complète de la procédure d’abstraction</a:t>
            </a:r>
            <a:endParaRPr b="0" lang="en-US" sz="24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de l’espace d’action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Ordres de haut niveau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Corruble, Madeira et Ramalho 2002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Représentation de l’espace d’états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Variables décrivant le résumé de l’état des groupes d’agents           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Blum et Langley 1997][Saitta et Zucker 2001][Li, Walsh et Littman 2006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mélioration de la coordination entre les agents                    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Guestrin, Lagoudakis et Parr 2002][Chalkiadakis et Boutilier 2003][Sigaud 2004]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Généralisation de stratégies entre différents scénarios de jeu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[Guestrin et al. 2003]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32C82-E540-4B48-8060-BEED9687E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464080"/>
            <a:ext cx="9144000" cy="139392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480" y="90360"/>
            <a:ext cx="9036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463416"/>
                </a:solidFill>
                <a:latin typeface="Arial"/>
              </a:rPr>
              <a:t>Apprentissage par renforcement (AR)</a:t>
            </a:r>
            <a:r>
              <a:rPr b="0" lang="fr-FR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399"/>
                </a:solidFill>
                <a:latin typeface="Arial"/>
              </a:rPr>
              <a:t>[Samuel 1959]…[Sutton et Barto 1998]…</a:t>
            </a:r>
            <a:endParaRPr b="0" lang="en-US" sz="15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480" y="3860280"/>
            <a:ext cx="9036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’agent apprend à se rapprocher d’une stratégie optimale par l’interaction avec l’environnement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es décisions sont prises séquentiellement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L’environnement peut être stochastique et inconnu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</a:rPr>
              <a:t>Très bons résultats pratiques ont été obtenus sur des problèmes complex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3416"/>
                </a:solidFill>
                <a:latin typeface="Arial"/>
              </a:rPr>
              <a:t>TD-Gammon est devenu le meilleur joueur de Backgammon au monde </a:t>
            </a: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[Tesauro 2002]</a:t>
            </a:r>
            <a:endParaRPr b="0" lang="en-US" sz="1400" spc="-1" strike="noStrike">
              <a:solidFill>
                <a:srgbClr val="463416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46341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Mais… nous nous intéressons à des problèmes beaucoup plus complexes</a:t>
            </a:r>
            <a:endParaRPr b="0" lang="en-US" sz="1800" spc="-1" strike="noStrike">
              <a:solidFill>
                <a:srgbClr val="463416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Nous avons le jeu commercial Battleground comme cas d’étude</a:t>
            </a:r>
            <a:endParaRPr b="0" lang="en-US" sz="1600" spc="-1" strike="noStrike">
              <a:solidFill>
                <a:srgbClr val="46341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65080" y="1382760"/>
            <a:ext cx="7167240" cy="2447280"/>
            <a:chOff x="865080" y="1382760"/>
            <a:chExt cx="7167240" cy="2447280"/>
          </a:xfrm>
        </p:grpSpPr>
        <p:sp>
          <p:nvSpPr>
            <p:cNvPr id="150" name=""/>
            <p:cNvSpPr/>
            <p:nvPr/>
          </p:nvSpPr>
          <p:spPr>
            <a:xfrm>
              <a:off x="4914720" y="1636920"/>
              <a:ext cx="123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ituation </a:t>
              </a: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48120" y="1901880"/>
              <a:ext cx="13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38960" y="2000520"/>
              <a:ext cx="16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enforcement </a:t>
              </a: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82840" y="2524320"/>
              <a:ext cx="104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8120" y="2016360"/>
              <a:ext cx="13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20760" y="2548080"/>
              <a:ext cx="13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43560" y="3497400"/>
              <a:ext cx="13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03000" y="32529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0840" y="31179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73920" y="308628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7320" y="3497400"/>
              <a:ext cx="138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8280" y="31179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8720" y="3497400"/>
              <a:ext cx="13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52480" y="3205440"/>
              <a:ext cx="53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01560" y="34419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73920" y="325944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2920" y="34545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0240" y="309096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64240" y="312120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40240" y="326412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49240" y="3459240"/>
              <a:ext cx="43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pt-BR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3513240" y="2271960"/>
              <a:ext cx="10616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865080" y="1382760"/>
              <a:ext cx="230436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995400" y="1508400"/>
              <a:ext cx="204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949480" y="2254320"/>
              <a:ext cx="871200" cy="673200"/>
            </a:xfrm>
            <a:custGeom>
              <a:avLst/>
              <a:gdLst/>
              <a:ahLst/>
              <a:rect l="l" t="t" r="r" b="b"/>
              <a:pathLst>
                <a:path w="575" h="424">
                  <a:moveTo>
                    <a:pt x="575" y="23"/>
                  </a:moveTo>
                  <a:cubicBezTo>
                    <a:pt x="510" y="11"/>
                    <a:pt x="446" y="0"/>
                    <a:pt x="393" y="23"/>
                  </a:cubicBezTo>
                  <a:cubicBezTo>
                    <a:pt x="340" y="46"/>
                    <a:pt x="280" y="98"/>
                    <a:pt x="257" y="159"/>
                  </a:cubicBezTo>
                  <a:cubicBezTo>
                    <a:pt x="234" y="220"/>
                    <a:pt x="295" y="348"/>
                    <a:pt x="257" y="386"/>
                  </a:cubicBezTo>
                  <a:cubicBezTo>
                    <a:pt x="219" y="424"/>
                    <a:pt x="60" y="386"/>
                    <a:pt x="30" y="386"/>
                  </a:cubicBezTo>
                  <a:cubicBezTo>
                    <a:pt x="0" y="386"/>
                    <a:pt x="38" y="386"/>
                    <a:pt x="76" y="38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6568920" y="2030760"/>
              <a:ext cx="6436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1"/>
            <a:stretch/>
          </p:blipFill>
          <p:spPr>
            <a:xfrm>
              <a:off x="7221960" y="1487520"/>
              <a:ext cx="81036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53BA1-2CE0-4208-9D90-AF2A20D31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90360"/>
            <a:ext cx="87138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Cas d’étude : le jeu commercial Battleground</a:t>
            </a:r>
            <a:r>
              <a:rPr b="0" lang="fr-FR" sz="3200" spc="-1" strike="noStrike" baseline="30000">
                <a:solidFill>
                  <a:srgbClr val="463416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1700280"/>
            <a:ext cx="41050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0760" cy="566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4440" y="3927600"/>
            <a:ext cx="12859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rtilleries françai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58960" y="3744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2560" y="4673520"/>
            <a:ext cx="1495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bjectifs à conquérir ou à défend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54720" y="3879720"/>
            <a:ext cx="432000" cy="21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25960" y="4479840"/>
            <a:ext cx="230400" cy="244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732360" y="4043520"/>
            <a:ext cx="5778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77080" y="4624560"/>
            <a:ext cx="388800" cy="168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7080" y="2903400"/>
            <a:ext cx="203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fanteries françai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827680" y="27334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605484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cène sais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883560" y="6207120"/>
            <a:ext cx="3427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3905280"/>
            <a:ext cx="1155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fante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u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272440" y="4389480"/>
            <a:ext cx="0" cy="301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86160" y="4340160"/>
            <a:ext cx="63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rê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708360" y="4581360"/>
            <a:ext cx="0" cy="301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44960" y="3630600"/>
            <a:ext cx="18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mpagnies ru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984920" y="38793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42000" y="3184560"/>
            <a:ext cx="96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mbl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26200" y="3438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4470480"/>
            <a:ext cx="431640" cy="21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4280040"/>
            <a:ext cx="43200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90440" y="3476520"/>
            <a:ext cx="360360" cy="1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73320" y="332712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273320" y="315612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273320" y="2958840"/>
            <a:ext cx="0" cy="19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73320" y="362556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73320" y="3765240"/>
            <a:ext cx="0" cy="198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73320" y="3957480"/>
            <a:ext cx="0" cy="19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684440" y="325764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4440" y="306540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55720" y="324648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55720" y="305928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26960" y="3327480"/>
            <a:ext cx="43200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4040" y="3222720"/>
            <a:ext cx="43164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960" y="384660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81200" y="3855600"/>
            <a:ext cx="0" cy="17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681200" y="365436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65080" y="385128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65080" y="3658680"/>
            <a:ext cx="0" cy="17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6800" y="384660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89080" y="375120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654360"/>
            <a:ext cx="43164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8120" y="364968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0520" y="373536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3760" y="3538440"/>
            <a:ext cx="43200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33080" y="344340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33080" y="3533760"/>
            <a:ext cx="43164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41320" y="376092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73320" y="376092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63280" y="3565440"/>
            <a:ext cx="43164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55680" y="3562200"/>
            <a:ext cx="43200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66520" y="3433680"/>
            <a:ext cx="43164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57480" y="34430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839520" y="3240000"/>
            <a:ext cx="43164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58920" y="32540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846000" y="3051000"/>
            <a:ext cx="43200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265400" y="3065400"/>
            <a:ext cx="43164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38080" y="394812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0080" y="394812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8440" y="3414600"/>
            <a:ext cx="43200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71480" y="3357360"/>
            <a:ext cx="43200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1480" y="3457440"/>
            <a:ext cx="43200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76520" y="35492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84400" y="355932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084400" y="34430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52520" y="374184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85840" y="3751200"/>
            <a:ext cx="432000" cy="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31640" y="3132000"/>
            <a:ext cx="432000" cy="1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76520" y="31604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092320" y="3268440"/>
            <a:ext cx="431640" cy="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640" bIns="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090880" y="3173400"/>
            <a:ext cx="0" cy="1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800" y="3150720"/>
            <a:ext cx="0" cy="1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71880" y="2235240"/>
            <a:ext cx="221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avaleries françai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454200" y="2382840"/>
            <a:ext cx="571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7640" y="1839960"/>
            <a:ext cx="284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hariots d’approvisionn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132000" y="1989000"/>
            <a:ext cx="787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16240" y="2168280"/>
            <a:ext cx="2509920" cy="1197360"/>
            <a:chOff x="4116240" y="2168280"/>
            <a:chExt cx="2509920" cy="1197360"/>
          </a:xfrm>
        </p:grpSpPr>
        <p:sp>
          <p:nvSpPr>
            <p:cNvPr id="257" name=""/>
            <p:cNvSpPr/>
            <p:nvPr/>
          </p:nvSpPr>
          <p:spPr>
            <a:xfrm>
              <a:off x="5192640" y="2685960"/>
              <a:ext cx="360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375160" y="253656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75160" y="236556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375160" y="216828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375160" y="283500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375160" y="297468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375160" y="3166920"/>
              <a:ext cx="0" cy="19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786640" y="24670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786640" y="22748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957920" y="24559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7920" y="22687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4528800" y="253692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116240" y="243216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528800" y="30560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306540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783400" y="286380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967280" y="30607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67280" y="286812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69000" y="30560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191280" y="29606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78360" y="286380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39960" y="285912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122720" y="29448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125600" y="274788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535280" y="26528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535280" y="274320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43160" y="29703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5160" y="297036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965480" y="277488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57880" y="277164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968720" y="264312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359320" y="26524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941720" y="244944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361120" y="24634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948200" y="22604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367240" y="227484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940280" y="315756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72280" y="31575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30640" y="26240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773680" y="25668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73680" y="266688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778360" y="27586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86600" y="27687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86600" y="26524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554720" y="29512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88040" y="296064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533840" y="23414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778360" y="23698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194520" y="24778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92720" y="23828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545000" y="236016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51000" y="1847520"/>
            <a:ext cx="2509920" cy="1197360"/>
            <a:chOff x="1251000" y="1847520"/>
            <a:chExt cx="2509920" cy="1197360"/>
          </a:xfrm>
        </p:grpSpPr>
        <p:sp>
          <p:nvSpPr>
            <p:cNvPr id="309" name=""/>
            <p:cNvSpPr/>
            <p:nvPr/>
          </p:nvSpPr>
          <p:spPr>
            <a:xfrm>
              <a:off x="2327400" y="2365200"/>
              <a:ext cx="360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9920" y="221580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509920" y="204480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509920" y="184752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09920" y="251424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09920" y="265392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509920" y="2846160"/>
              <a:ext cx="0" cy="19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921400" y="21463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21400" y="19540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92680" y="213516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2680" y="194796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663560" y="221616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1251000" y="211140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3560" y="27352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918160" y="27446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918160" y="25430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102040" y="273996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102040" y="254736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03760" y="27352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326040" y="26398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13120" y="254304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674720" y="25383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257480" y="262404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260360" y="242712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670040" y="23320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1670040" y="242244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77920" y="264960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9920" y="26496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100240" y="245412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92640" y="245088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103480" y="232236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494080" y="233172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2076480" y="212868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495880" y="214272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2082960" y="193968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502000" y="195408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075040" y="28368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7040" y="283680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1265400" y="230328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908440" y="224604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08440" y="234612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913120" y="243792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21360" y="244800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321360" y="233172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689480" y="26305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22800" y="263988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1668600" y="202068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13120" y="204912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329280" y="215712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327480" y="20620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679760" y="203940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607080" y="1775880"/>
            <a:ext cx="2509920" cy="1197360"/>
            <a:chOff x="6607080" y="1775880"/>
            <a:chExt cx="2509920" cy="1197360"/>
          </a:xfrm>
        </p:grpSpPr>
        <p:sp>
          <p:nvSpPr>
            <p:cNvPr id="361" name=""/>
            <p:cNvSpPr/>
            <p:nvPr/>
          </p:nvSpPr>
          <p:spPr>
            <a:xfrm>
              <a:off x="7683480" y="2293560"/>
              <a:ext cx="360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866000" y="214416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866000" y="197316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866000" y="177588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866000" y="2442600"/>
              <a:ext cx="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866000" y="2582280"/>
              <a:ext cx="0" cy="19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866000" y="2774520"/>
              <a:ext cx="0" cy="19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277480" y="20746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277480" y="18824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448760" y="20635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448760" y="18763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7019640" y="214452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607080" y="203976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019640" y="26636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274240" y="267300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274240" y="247140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458120" y="266832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458120" y="247572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59840" y="26636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682120" y="25682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9200" y="247140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030800" y="246672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613560" y="25524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616440" y="235548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6120" y="226044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7026120" y="235080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434000" y="25779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66000" y="257796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456320" y="238248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8720" y="2379240"/>
              <a:ext cx="43164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7459560" y="225072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850160" y="22600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7432560" y="2057040"/>
              <a:ext cx="43164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851960" y="20710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7439040" y="18680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858080" y="188244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431120" y="276516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63120" y="27651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6621480" y="22316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8264520" y="217440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64520" y="227448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8269200" y="23662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77440" y="237636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8677440" y="22600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45560" y="255888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78880" y="2568240"/>
              <a:ext cx="432000" cy="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7024680" y="1949040"/>
              <a:ext cx="432000" cy="1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8269200" y="1977480"/>
              <a:ext cx="43200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8685360" y="2085480"/>
              <a:ext cx="43164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683560" y="1990440"/>
              <a:ext cx="0" cy="1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35840" y="1967760"/>
              <a:ext cx="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49CCC-99C1-4185-ACB2-5721BF01CF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030320" y="3522600"/>
            <a:ext cx="4489560" cy="33465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90360"/>
            <a:ext cx="8642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63416"/>
                </a:solidFill>
                <a:latin typeface="Arial"/>
              </a:rPr>
              <a:t>Difficultés pour appliquer l’AR aux jeux modernes</a:t>
            </a:r>
            <a:endParaRPr b="0" lang="en-US" sz="3000" spc="-1" strike="noStrike">
              <a:solidFill>
                <a:srgbClr val="463416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468680" y="3525840"/>
            <a:ext cx="4678560" cy="33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5886360" y="1243080"/>
          <a:ext cx="2502000" cy="1927080"/>
        </p:xfrm>
        <a:graphic>
          <a:graphicData uri="http://schemas.openxmlformats.org/drawingml/2006/table">
            <a:tbl>
              <a:tblPr/>
              <a:tblGrid>
                <a:gridCol w="1251000"/>
                <a:gridCol w="1251000"/>
              </a:tblGrid>
              <a:tr h="580680">
                <a:tc gridSpan="2"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cénario simp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x 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1" lang="fr-FR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1" lang="fr-FR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1" lang="fr-FR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722160" y="1244520"/>
          <a:ext cx="5154840" cy="1922400"/>
        </p:xfrm>
        <a:graphic>
          <a:graphicData uri="http://schemas.openxmlformats.org/drawingml/2006/table">
            <a:tbl>
              <a:tblPr/>
              <a:tblGrid>
                <a:gridCol w="2713320"/>
                <a:gridCol w="2441520"/>
              </a:tblGrid>
              <a:tr h="576360"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amm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6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 physi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x simultan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 d’éta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r>
                        <a:rPr b="1" lang="fr-FR" sz="1600" spc="-1" strike="noStrike" baseline="30000">
                          <a:solidFill>
                            <a:srgbClr val="3333cc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 d’a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950760" y="3240000"/>
            <a:ext cx="1551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Arial"/>
              </a:rPr>
              <a:t>Backgamm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92800" y="325764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Arial"/>
              </a:rPr>
              <a:t>Battleground (John Tiller Games / Talonsof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dc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480" y="5530680"/>
            <a:ext cx="9055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Comment représenter l’état de l’environnement si l’on ne peut pas le faire dans son intégralité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Comment choisir des actions cohérentes pour un ensemble d’unité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4AAF6-F27B-437B-AAD5-DFAAA42FA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01295E-007 L -0.09965 0.00254 E">
                                      <p:cBhvr>
                                        <p:cTn id="402" dur="1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227E-008 L -0.11041 7.40227E-008 E">
                                      <p:cBhvr>
                                        <p:cTn id="404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4000" y="90360"/>
            <a:ext cx="8640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3416"/>
                </a:solidFill>
                <a:latin typeface="Arial"/>
              </a:rPr>
              <a:t>Voie de recherche envisagée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8920" y="1211400"/>
            <a:ext cx="90550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26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Approche distribuée multi-agents </a:t>
            </a:r>
            <a:r>
              <a:rPr b="1" lang="fr-FR" sz="1900" spc="-1" strike="noStrike">
                <a:solidFill>
                  <a:srgbClr val="003399"/>
                </a:solidFill>
                <a:latin typeface="Arial"/>
              </a:rPr>
              <a:t>[Weiss 2000]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Les capacités de perception et de prise de décisions sont distribu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Cependant, les méthodes classiques d’AR se transposent 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349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  <a:ea typeface="Arial"/>
              </a:rPr>
              <a:t>L’environnement de chaque unité devient non-Markov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349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3416"/>
                </a:solidFill>
                <a:latin typeface="Arial"/>
                <a:ea typeface="Arial"/>
              </a:rPr>
              <a:t>La convergence des algorithmes d’AR n’est plus assur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3416"/>
                </a:solidFill>
                <a:latin typeface="Arial"/>
              </a:rPr>
              <a:t>Un effort collectif est nécessaire pour construire des solutions globalement cohérentes et opti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76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Problème de la coordination multi-agents </a:t>
            </a: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[Malone et Crowston 1994] [Boutilier 1996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DFB3-EF3F-48F2-B1E4-5313F351C5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8000" y="90360"/>
            <a:ext cx="8928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63416"/>
                </a:solidFill>
                <a:latin typeface="Arial"/>
              </a:rPr>
              <a:t>Apprentissage de la coordination par renforcement</a:t>
            </a:r>
            <a:endParaRPr b="0" lang="en-US" sz="30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480" y="1310760"/>
            <a:ext cx="9036000" cy="36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Approches classées selon trois groupes principaux</a:t>
            </a:r>
            <a:endParaRPr b="0" lang="en-US" sz="20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500120" y="1693800"/>
            <a:ext cx="305928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65520" y="1693800"/>
            <a:ext cx="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64080" y="1693800"/>
            <a:ext cx="305892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3068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634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64280" y="3598920"/>
            <a:ext cx="2879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5879160" y="2788200"/>
            <a:ext cx="360360" cy="5616720"/>
          </a:xfrm>
          <a:custGeom>
            <a:avLst/>
            <a:gdLst>
              <a:gd name="textAreaLeft" fmla="*/ 0 w 360360"/>
              <a:gd name="textAreaRight" fmla="*/ 129960 w 36036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501480" y="3519360"/>
            <a:ext cx="95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Processus de décision           Émergence de                      Emploi de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463416"/>
                </a:solidFill>
                <a:latin typeface="Arial"/>
              </a:rPr>
              <a:t>Markoviens multi-agents        la coordination                 connaiss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Littman 1994, 2001]                   [Crites et Barto 1998]                     [Dietterich 2000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Uther et Veloso 1997]                   [Sen et Weiss 2000]             [Barto et Mahadevan 2003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Hu et Wellman 1998, 2003]            [Wolpert et Tumer 1999]               [Boutilier et al. 2000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[Claus et Boutilier 1998]             [Riedmiller et Merke 2002]             [Guestrin et al. 2003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93B27-3460-4A8E-8F9C-6A400DAF40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51:22Z</dcterms:created>
  <dc:creator>Vincent Corruble</dc:creator>
  <dc:description/>
  <dc:language>en-US</dc:language>
  <cp:lastModifiedBy>Charles Madeira</cp:lastModifiedBy>
  <cp:lastPrinted>2003-07-16T10:10:34Z</cp:lastPrinted>
  <dcterms:modified xsi:type="dcterms:W3CDTF">2007-04-24T18:19:15Z</dcterms:modified>
  <cp:revision>674</cp:revision>
  <dc:subject/>
  <dc:title>Apprentissage Automatique en jeu de type Wargame</dc:title>
</cp:coreProperties>
</file>